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4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5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646A-570F-456E-8EC2-98BC1F1A15F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Img"/>
          </p:nvPr>
        </p:nvSpPr>
        <p:spPr>
          <a:xfrm>
            <a:off x="0" y="53928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body"/>
          </p:nvPr>
        </p:nvSpPr>
        <p:spPr>
          <a:xfrm>
            <a:off x="1023480" y="3372120"/>
            <a:ext cx="8187480" cy="3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egnaposto piè di pagina 9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334152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022400" y="3371400"/>
            <a:ext cx="81900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egnaposto piè di pagina 6"/>
          <p:cNvSpPr/>
          <p:nvPr/>
        </p:nvSpPr>
        <p:spPr>
          <a:xfrm>
            <a:off x="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egnaposto intestazione 1"/>
          <p:cNvSpPr/>
          <p:nvPr/>
        </p:nvSpPr>
        <p:spPr>
          <a:xfrm>
            <a:off x="0" y="0"/>
            <a:ext cx="4435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ilancio dell'esercizio 2011 del sistema CIOFS-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8A29-8D27-47D3-A882-1487E128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5E1F-EE99-4BBD-ABFF-8B0B7F5F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85AC8-F201-465F-8CA6-ABE1E627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4AB7C-D8E8-4332-B7FA-96B370469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19E40-0CE1-4DF7-BDCF-A510E9989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BA098-3C24-4FE1-9D01-9B4B296B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A854A-F3C0-41CF-9722-5D1054BE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9F968-C000-499C-985C-21922686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B7F7A-478C-44F5-B623-84C32EBF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42E11-9895-4258-9960-27BB1DFE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E5723-8FF1-4189-AC35-8CC856264A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9FCF08-BB3E-42AA-BA96-D7E18A8D82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3EF-C085-41B5-9F8E-CD4380B3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7F5EA4-8559-4ABD-9021-A6C7E90B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ABCC89-45FA-4FDF-9D58-B4827D15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D0F67D-CA4B-4A09-84D4-C038A443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582247-1955-4A8F-AD10-8E8B1FCD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F24A26-5B5C-49AC-9C17-67532DD6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B4EC5E-FA32-4B47-BBBE-31DFE61F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10C4E5-2378-45DC-A2AF-204B03D2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0A36E3-0E6C-4FAD-B1EB-161A9403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CFCC4D-2BAD-4CB4-80D1-1E22A1B9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D414D2-C15C-4F11-AB19-18B17852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27A-5339-440F-B00E-8F0D5C1C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49C85D-420A-4BCF-A5F9-74C382535B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61243E-2809-40F2-BD02-103BCA713C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B9A287-0B8B-47FF-9F53-7D066A02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5C544F-A325-458F-ADF1-AFFCAB6B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08A351-8DA5-44C6-9021-DFDC4120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86588D-E4E5-4982-B3FC-D008783B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157608-E6EB-46A0-8EF2-BB41D352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8843A4-C972-4B36-B04F-03ECCAC8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131429-B096-4A4A-80A2-4F3A217D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4A34E9-C63C-4674-80D2-1A906FD0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5E811-31C9-412C-BEB4-8DAC6590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2C9DF0-49AD-4338-A11F-4E5CF6E9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E21E16-8928-4ABC-B718-9481A8E1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FEA179-BFA8-4FC1-B7D8-93C03ADBDF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F1604-D33E-4DB9-A7BE-A601EA9BA8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F7E67-285B-4E3F-8F22-38F21015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69152-48F1-4851-AA6C-134F2809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AADAF-6E0D-430C-B592-AF7794F2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C4AE8-ED4C-4E8E-B5B0-A777C2B4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A6019-3FAD-4776-9AA0-F32B1498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CFBB6-2BEA-4235-953B-1A08D4F0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7C6B-EC2D-4F18-BD71-53CDFE7A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93664-3D4F-46ED-9AC4-420CCECF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4D596-740A-4369-99B5-B888E9E7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84708-F2CF-4CCD-885F-7A0A0CD1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9BD07-E295-4055-9FF0-55924A0E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CDC17-D01C-49CC-A31A-720B2A5B8C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EBEB97-BA76-46F2-93A6-71E348B681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519580-8FA8-47F1-9F68-427FDFF8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8A5A06-6E3C-4D2A-A8CB-187BEE10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3FF16E-C0E2-46D9-84C6-23EB7FB7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FCF28E-B263-47D1-A218-7C2A2225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1174-D09A-4CAB-8B02-58C74AE9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137761-EF33-40FC-9C14-9A3337C8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64DC2F-A4DA-4075-B53D-72B459DF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9F48D7-1CDF-4982-9782-CA47746B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AC50B0-6EFD-40D4-8E17-3FAAB754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A96901-4709-4B90-BD5E-8EA835CF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044EF3-D61E-4A9D-A795-503D57D4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5F0B93-0902-4868-81C2-B4394F9B5D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7086-C0CB-4C64-AF10-B78B4654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A07E-C8B6-48ED-B1D3-0C7436F9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1299-8F8C-485D-8AC2-23ADEF78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AF02-B19D-4570-B53D-625A2D05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5F60-24EE-4F18-BFB7-AAD84EB6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A899-9D83-4055-A94D-D32FA356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97D6-E4AB-440E-A0A8-017C26C8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639E5-7652-45FF-9109-A27FA04B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1DB8-8014-468A-990A-05C62B93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815C-3272-4AAE-AD82-F6E9DCDAF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2D8FB-C855-48D0-BC7A-78DAC2A5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DE3F8-6008-48BC-A4FD-514AA371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D0C33-D65D-4804-8C71-0F51A8E0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F7C7B-42B5-49BB-B319-3071F194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A23AC-03A2-40CA-AB91-9A13B0BF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6633-53E1-4907-9255-3B2F6120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8B348-2F12-48BE-B1EC-250A035A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D4B65-9BCA-43D4-AF5C-FE152D7B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33FD9-AB62-4E3A-97BF-5A6BEA9A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CA8B2-D8CB-46B6-844E-176DB872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D66A9-6CD9-4E02-981A-D280223C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BDDF7-452F-4822-991D-4F4D296E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C5751-271F-4F54-9863-46593A7E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7B67-1035-42FD-A59D-BF410320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16DB-BC59-4B94-8FE4-BBC467BE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35ED-B582-4E56-B627-A8E06E06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F5E6-D142-4AEB-AF07-899CAFA5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9F5644-3BBA-48C1-8CEB-0549A873B0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E22D5C-43F3-48A8-9053-9AC51B91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B18A15-A6BB-47E3-BF8E-12E35C0D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EF89EF-6361-46C2-9A2F-EC74C7A0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78AEC4-454C-4C54-8012-3718CEEC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6742EA-3304-434D-BE1F-23695B4F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312162-D80C-46CE-A729-B9F631DA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868F-9866-4821-859E-A938F72F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8664CE-5F2D-4B3F-B4F0-88F479C2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67E5D8-5847-49F5-88C7-0B23C08B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B02C5C-5EF1-4DEC-B804-6A4B291E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B280D0-F9C5-40EC-8DF9-7AEF703B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4BBE76-1E79-4633-AEF3-0359640E19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0AFDAE-45E5-4A2D-B242-2D34E91D19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E0409C-22D5-4BC2-A2F8-B9B69BCB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7A8DB2-DB11-45E7-90F0-D80117D0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A090AE-CCAC-4446-8961-1EC82A11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13E90E-B115-4B07-9032-3A9963BE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6169-DAFE-461F-A7D0-674510D5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1B5C18-C25C-4A87-9A3D-17EC89E0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7941BB-BEEE-485C-816D-8C3C3333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855121-E6B6-4DC6-84D4-B0A0CDAF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BE1C96-6CA0-46F2-8C62-BB1DD79D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4EE466-2951-4C04-8CC8-1FDF3185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1459BC-BE79-4002-85C0-44C49111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C49898-E5E2-410E-93D0-9297BE7F3D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96EB0-FF22-4BED-BCDF-0A6433CB92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CD961-EB06-4AF0-92E2-334C103A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E0D1E-6B53-4351-A9BB-046B48F2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ssemblea Nazionale CIOFS-FP  Roma, 25-26 Ottobre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4BE9-3BFC-42A4-A40B-EB681E8CF96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277F-57A1-4550-8280-F887BDBBE91A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CF93-5A5A-4C0E-A699-962AB02FF686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5B14-02B6-4AA3-AB6B-5464E735102E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2E1E-BA4A-488E-844D-AC57954F1571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Assemblea Nazionale CIOFS-FP  Roma, 25-26 Ottobre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4F0E-8F8A-46A4-8B2B-541960366DC3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36CE-2F3D-41C3-833E-0717E22E77AF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ruppo 6" descr=""/>
          <p:cNvPicPr/>
          <p:nvPr/>
        </p:nvPicPr>
        <p:blipFill>
          <a:blip r:embed="rId2"/>
          <a:stretch/>
        </p:blipFill>
        <p:spPr>
          <a:xfrm>
            <a:off x="79200" y="66600"/>
            <a:ext cx="4797720" cy="847800"/>
          </a:xfrm>
          <a:prstGeom prst="rect">
            <a:avLst/>
          </a:prstGeom>
          <a:ln w="0">
            <a:noFill/>
          </a:ln>
        </p:spPr>
      </p:pic>
      <p:sp>
        <p:nvSpPr>
          <p:cNvPr id="124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66b5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uppo 4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26" name="Immagine 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  <a:ea typeface="Calibri"/>
              </a:rPr>
              <a:t>Assemblea Nazionale e CDN CIOFS-FP  Roma, 2-4 aprile 20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ruppo 6" descr=""/>
          <p:cNvPicPr/>
          <p:nvPr/>
        </p:nvPicPr>
        <p:blipFill>
          <a:blip r:embed="rId2"/>
          <a:stretch/>
        </p:blipFill>
        <p:spPr>
          <a:xfrm>
            <a:off x="79200" y="73080"/>
            <a:ext cx="4797720" cy="439560"/>
          </a:xfrm>
          <a:prstGeom prst="rect">
            <a:avLst/>
          </a:prstGeom>
          <a:ln w="0">
            <a:noFill/>
          </a:ln>
        </p:spPr>
      </p:pic>
      <p:sp>
        <p:nvSpPr>
          <p:cNvPr id="168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uppo 10"/>
          <p:cNvGrpSpPr/>
          <p:nvPr/>
        </p:nvGrpSpPr>
        <p:grpSpPr>
          <a:xfrm>
            <a:off x="-6480" y="6391440"/>
            <a:ext cx="9041040" cy="237960"/>
            <a:chOff x="-6480" y="6391440"/>
            <a:chExt cx="9041040" cy="237960"/>
          </a:xfrm>
        </p:grpSpPr>
        <p:pic>
          <p:nvPicPr>
            <p:cNvPr id="170" name="Immagine 11" descr=""/>
            <p:cNvPicPr/>
            <p:nvPr/>
          </p:nvPicPr>
          <p:blipFill>
            <a:blip r:embed="rId3"/>
            <a:stretch/>
          </p:blipFill>
          <p:spPr>
            <a:xfrm>
              <a:off x="7543800" y="6391440"/>
              <a:ext cx="14907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Rettangolo 12"/>
            <p:cNvSpPr/>
            <p:nvPr/>
          </p:nvSpPr>
          <p:spPr>
            <a:xfrm>
              <a:off x="-6480" y="6570720"/>
              <a:ext cx="7412400" cy="48960"/>
            </a:xfrm>
            <a:prstGeom prst="rect">
              <a:avLst/>
            </a:prstGeom>
            <a:solidFill>
              <a:srgbClr val="ffd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Nazionale CIOFS-FP - Roma, 25 marzo 202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Gruppo 6" descr=""/>
          <p:cNvPicPr/>
          <p:nvPr/>
        </p:nvPicPr>
        <p:blipFill>
          <a:blip r:embed="rId2"/>
          <a:stretch/>
        </p:blipFill>
        <p:spPr>
          <a:xfrm>
            <a:off x="42840" y="66600"/>
            <a:ext cx="4834080" cy="847800"/>
          </a:xfrm>
          <a:prstGeom prst="rect">
            <a:avLst/>
          </a:prstGeom>
          <a:ln w="0">
            <a:noFill/>
          </a:ln>
        </p:spPr>
      </p:pic>
      <p:sp>
        <p:nvSpPr>
          <p:cNvPr id="212" name="Rettangolo 9"/>
          <p:cNvSpPr/>
          <p:nvPr/>
        </p:nvSpPr>
        <p:spPr>
          <a:xfrm>
            <a:off x="0" y="455760"/>
            <a:ext cx="9144000" cy="458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ttangolo 10"/>
          <p:cNvSpPr/>
          <p:nvPr/>
        </p:nvSpPr>
        <p:spPr>
          <a:xfrm>
            <a:off x="-6480" y="6570720"/>
            <a:ext cx="7412040" cy="49320"/>
          </a:xfrm>
          <a:prstGeom prst="rect">
            <a:avLst/>
          </a:prstGeom>
          <a:solidFill>
            <a:srgbClr val="ffd8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itolo 1"/>
          <p:cNvSpPr/>
          <p:nvPr/>
        </p:nvSpPr>
        <p:spPr>
          <a:xfrm>
            <a:off x="-19080" y="6622920"/>
            <a:ext cx="538812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9446e"/>
                </a:solidFill>
                <a:latin typeface="Calibri"/>
                <a:ea typeface="Calibri"/>
              </a:rPr>
              <a:t>Assemblea e CDN - Roma, 26/27 marzo 20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Immagine 12" descr=""/>
          <p:cNvPicPr/>
          <p:nvPr/>
        </p:nvPicPr>
        <p:blipFill>
          <a:blip r:embed="rId3"/>
          <a:stretch/>
        </p:blipFill>
        <p:spPr>
          <a:xfrm>
            <a:off x="7543800" y="6248520"/>
            <a:ext cx="1374840" cy="4269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016C-DA6F-4EAF-8A04-10D10858F2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E427-B4CB-449C-B920-8A00EF8444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AC2F-4178-4CA7-AF21-E83DE9802CFE}" type="slidenum">
              <a:rPr b="0" lang="it-I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ttangolo 40"/>
          <p:cNvSpPr/>
          <p:nvPr/>
        </p:nvSpPr>
        <p:spPr>
          <a:xfrm>
            <a:off x="0" y="5811840"/>
            <a:ext cx="9140760" cy="104616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tolo 1"/>
          <p:cNvSpPr/>
          <p:nvPr/>
        </p:nvSpPr>
        <p:spPr>
          <a:xfrm>
            <a:off x="228600" y="6194520"/>
            <a:ext cx="29750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ttangolo 37"/>
          <p:cNvSpPr/>
          <p:nvPr/>
        </p:nvSpPr>
        <p:spPr>
          <a:xfrm flipV="1" rot="10800000">
            <a:off x="2743200" y="406800"/>
            <a:ext cx="4332240" cy="1731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Roma, 26 marzo 20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CD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ttangolo 41"/>
          <p:cNvSpPr/>
          <p:nvPr/>
        </p:nvSpPr>
        <p:spPr>
          <a:xfrm>
            <a:off x="0" y="3232080"/>
            <a:ext cx="9144000" cy="141120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19360" y="3648240"/>
            <a:ext cx="4360680" cy="14112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CIOFS SCUOLA FMA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BILANCIO 202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  <a:ea typeface="Calibri"/>
              </a:rPr>
              <a:t>- PREVENTIVO 20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Immagine 1" descr=""/>
          <p:cNvPicPr/>
          <p:nvPr/>
        </p:nvPicPr>
        <p:blipFill>
          <a:blip r:embed="rId1"/>
          <a:stretch/>
        </p:blipFill>
        <p:spPr>
          <a:xfrm>
            <a:off x="3425760" y="5905440"/>
            <a:ext cx="224496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ttangolo 1"/>
          <p:cNvSpPr/>
          <p:nvPr/>
        </p:nvSpPr>
        <p:spPr>
          <a:xfrm>
            <a:off x="510480" y="457200"/>
            <a:ext cx="207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L FATTURA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ttangolo 2"/>
          <p:cNvSpPr/>
          <p:nvPr/>
        </p:nvSpPr>
        <p:spPr>
          <a:xfrm>
            <a:off x="1714680" y="934920"/>
            <a:ext cx="62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 +40,5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2133720" y="1295280"/>
          <a:ext cx="4572000" cy="1344600"/>
        </p:xfrm>
        <a:graphic>
          <a:graphicData uri="http://schemas.openxmlformats.org/drawingml/2006/table">
            <a:tbl>
              <a:tblPr/>
              <a:tblGrid>
                <a:gridCol w="2350800"/>
                <a:gridCol w="2221200"/>
              </a:tblGrid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CONTO ECONOM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RICA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149.03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88.67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60.35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VARIAZIONI % 2021/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 Light"/>
                        </a:rPr>
                        <a:t>40,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3" name="Rettangolo 5"/>
          <p:cNvSpPr/>
          <p:nvPr/>
        </p:nvSpPr>
        <p:spPr>
          <a:xfrm>
            <a:off x="-152280" y="28144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70c0"/>
                </a:solidFill>
                <a:latin typeface="Calibri Light"/>
                <a:ea typeface="Calibri"/>
              </a:rPr>
              <a:t>Distribuzione percentuale dei ricavi per progetti/at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Grafico 11"/>
          <p:cNvGraphicFramePr/>
          <p:nvPr/>
        </p:nvGraphicFramePr>
        <p:xfrm>
          <a:off x="196920" y="2763720"/>
          <a:ext cx="8750160" cy="36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5" name="Grafico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920" y="2763720"/>
                    <a:ext cx="875016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ttangolo 1"/>
          <p:cNvSpPr/>
          <p:nvPr/>
        </p:nvSpPr>
        <p:spPr>
          <a:xfrm>
            <a:off x="380880" y="2494080"/>
            <a:ext cx="8458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70c0"/>
                </a:solidFill>
                <a:latin typeface="Calibri"/>
              </a:rPr>
              <a:t>LA DISTRIBUZIONE PERCENTUALE DEI C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ttangolo 1"/>
          <p:cNvSpPr/>
          <p:nvPr/>
        </p:nvSpPr>
        <p:spPr>
          <a:xfrm>
            <a:off x="538560" y="457200"/>
            <a:ext cx="110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Calibri"/>
              </a:rPr>
              <a:t>I COST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ttangolo 2"/>
          <p:cNvSpPr/>
          <p:nvPr/>
        </p:nvSpPr>
        <p:spPr>
          <a:xfrm flipH="1">
            <a:off x="7127280" y="1041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</a:rPr>
              <a:t>Incremento rispetto all’esercizio precedente pari al +25,58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Grafico 7"/>
          <p:cNvGraphicFramePr/>
          <p:nvPr/>
        </p:nvGraphicFramePr>
        <p:xfrm>
          <a:off x="177840" y="2692440"/>
          <a:ext cx="8559720" cy="39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1" name="Grafico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692440"/>
                    <a:ext cx="8559720" cy="39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CasellaDiTesto 2"/>
          <p:cNvSpPr/>
          <p:nvPr/>
        </p:nvSpPr>
        <p:spPr>
          <a:xfrm>
            <a:off x="969840" y="26766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9446e"/>
                </a:solidFill>
                <a:latin typeface="Calibri"/>
                <a:ea typeface="Calibri"/>
              </a:rPr>
              <a:t>DISTRIBUZIONE PERCENTUALE DEI C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905120" y="1014480"/>
          <a:ext cx="4800600" cy="1533600"/>
        </p:xfrm>
        <a:graphic>
          <a:graphicData uri="http://schemas.openxmlformats.org/drawingml/2006/table">
            <a:tbl>
              <a:tblPr/>
              <a:tblGrid>
                <a:gridCol w="2468520"/>
                <a:gridCol w="2332080"/>
              </a:tblGrid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NTO ECONOMICO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COS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51.362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0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112.648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ASSOLU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38.714,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VARIAZIONE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9446e"/>
                          </a:solidFill>
                          <a:latin typeface="Calibri"/>
                        </a:rPr>
                        <a:t>25,5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ttangolo 1"/>
          <p:cNvSpPr/>
          <p:nvPr/>
        </p:nvSpPr>
        <p:spPr>
          <a:xfrm>
            <a:off x="543600" y="360360"/>
            <a:ext cx="3987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ffffff"/>
                </a:solidFill>
                <a:latin typeface="Calibri"/>
              </a:rPr>
              <a:t>Risultato di eserciz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ttangolo 2"/>
          <p:cNvSpPr/>
          <p:nvPr/>
        </p:nvSpPr>
        <p:spPr>
          <a:xfrm flipH="1">
            <a:off x="762120" y="1371600"/>
            <a:ext cx="7696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A seguito delle risultanze di bilanc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si  evidenzi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 u="sng">
                <a:solidFill>
                  <a:srgbClr val="09446e"/>
                </a:solidFill>
                <a:uFillTx/>
                <a:latin typeface="Calibri"/>
              </a:rPr>
              <a:t>un disavanzo di esercizi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  3.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dopo le imposte per IRAP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pari ad euro</a:t>
            </a: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 </a:t>
            </a:r>
            <a:r>
              <a:rPr b="1" i="1" lang="it-IT" sz="2500" spc="-1" strike="noStrike">
                <a:solidFill>
                  <a:srgbClr val="09446e"/>
                </a:solidFill>
                <a:latin typeface="Calibri"/>
              </a:rPr>
              <a:t>67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DEMPIMENTI LEGISL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ttangolo 2"/>
          <p:cNvSpPr/>
          <p:nvPr/>
        </p:nvSpPr>
        <p:spPr>
          <a:xfrm>
            <a:off x="152280" y="1282680"/>
            <a:ext cx="8686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2060"/>
                </a:solidFill>
                <a:latin typeface="Calibri"/>
              </a:rPr>
              <a:t>Rispettate le norme in materia di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CCANTONAMENTO TF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Le somme maturate a favore dei dipendenti nel fondo esposto in bilancio sono state versate su un apposito conto assicurativo, per garantire l’immediata disponibilità moneta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02060"/>
                </a:solidFill>
                <a:latin typeface="Calibri"/>
              </a:rPr>
              <a:t>AGGIORNAMENTO DEL PERSONALE INTERNO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2060"/>
                </a:solidFill>
                <a:latin typeface="Calibri"/>
              </a:rPr>
              <a:t>attraverso specifici Percorsi di Formazione sulla base dei fabbisogni espre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PROSPETTIVE PER IL 202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ttangolo 2"/>
          <p:cNvSpPr/>
          <p:nvPr/>
        </p:nvSpPr>
        <p:spPr>
          <a:xfrm>
            <a:off x="33480" y="923760"/>
            <a:ext cx="868680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SI PREVEDE UN FATTURATO GLOBALE IN LIEVE FLESSIONE RISPETTO ALL’ANNO PRECE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Sarebbe auspicabile sostenere le attività istituzionali con: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ricorso più massiccio al Fond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262673"/>
                </a:solidFill>
                <a:latin typeface="Calibri"/>
              </a:rPr>
              <a:t>- ipotesi di adesione al Terzo Setto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PERCH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L’ente è già organizzato a livello amministrativo cont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migliorata la capacità organizzativo-gestio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che grazie all’utilizzo di software di conta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itolo 1"/>
          <p:cNvSpPr/>
          <p:nvPr/>
        </p:nvSpPr>
        <p:spPr>
          <a:xfrm>
            <a:off x="12600" y="4618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VOTAZIO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ttangolo 2"/>
          <p:cNvSpPr/>
          <p:nvPr/>
        </p:nvSpPr>
        <p:spPr>
          <a:xfrm>
            <a:off x="152280" y="128268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Alla luce delle considerazioni svolte nei punti precedenti e di quanto esposto nella Nota Integr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la Segretaria N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Vi propone di approvare il progetto di bilancio che Vi viene sottopo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e di coprire il disavanzo di gestione pari ad euro </a:t>
            </a:r>
            <a:r>
              <a:rPr b="0" i="1" lang="it-IT" sz="2800" spc="-1" strike="noStrike">
                <a:solidFill>
                  <a:srgbClr val="000000"/>
                </a:solidFill>
                <a:latin typeface="Calibri Light"/>
                <a:ea typeface="Calibri"/>
              </a:rPr>
              <a:t> </a:t>
            </a:r>
            <a:r>
              <a:rPr b="1" lang="it-IT" sz="2800" spc="-1" strike="noStrike">
                <a:solidFill>
                  <a:srgbClr val="262673"/>
                </a:solidFill>
                <a:latin typeface="Arial"/>
              </a:rPr>
              <a:t>3.000 con il Fondo Associ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itolo 1"/>
          <p:cNvSpPr/>
          <p:nvPr/>
        </p:nvSpPr>
        <p:spPr>
          <a:xfrm>
            <a:off x="0" y="76320"/>
            <a:ext cx="91440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REVENTIVO ESERCIZIO 20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Tabella 6" descr=""/>
          <p:cNvPicPr/>
          <p:nvPr/>
        </p:nvPicPr>
        <p:blipFill>
          <a:blip r:embed="rId1"/>
          <a:stretch/>
        </p:blipFill>
        <p:spPr>
          <a:xfrm>
            <a:off x="371520" y="414360"/>
            <a:ext cx="81025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ttangolo 40"/>
          <p:cNvSpPr/>
          <p:nvPr/>
        </p:nvSpPr>
        <p:spPr>
          <a:xfrm>
            <a:off x="0" y="5257800"/>
            <a:ext cx="9140760" cy="1600200"/>
          </a:xfrm>
          <a:prstGeom prst="rect">
            <a:avLst/>
          </a:prstGeom>
          <a:solidFill>
            <a:srgbClr val="efef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ttangolo 35"/>
          <p:cNvSpPr/>
          <p:nvPr/>
        </p:nvSpPr>
        <p:spPr>
          <a:xfrm>
            <a:off x="7927920" y="839880"/>
            <a:ext cx="1216080" cy="1295280"/>
          </a:xfrm>
          <a:prstGeom prst="rect">
            <a:avLst/>
          </a:prstGeom>
          <a:solidFill>
            <a:srgbClr val="7b23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ttangolo 41"/>
          <p:cNvSpPr/>
          <p:nvPr/>
        </p:nvSpPr>
        <p:spPr>
          <a:xfrm>
            <a:off x="0" y="2895480"/>
            <a:ext cx="9144000" cy="679680"/>
          </a:xfrm>
          <a:prstGeom prst="rect">
            <a:avLst/>
          </a:prstGeom>
          <a:solidFill>
            <a:srgbClr val="f8b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ttangolo 27"/>
          <p:cNvSpPr/>
          <p:nvPr/>
        </p:nvSpPr>
        <p:spPr>
          <a:xfrm>
            <a:off x="7075440" y="2135160"/>
            <a:ext cx="852480" cy="4428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ttangolo 32"/>
          <p:cNvSpPr/>
          <p:nvPr/>
        </p:nvSpPr>
        <p:spPr>
          <a:xfrm>
            <a:off x="7075440" y="-23760"/>
            <a:ext cx="852480" cy="863640"/>
          </a:xfrm>
          <a:prstGeom prst="rect">
            <a:avLst/>
          </a:prstGeom>
          <a:solidFill>
            <a:srgbClr val="008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7927920" cy="67968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87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  <a:ea typeface="Calibri"/>
              </a:rPr>
              <a:t>Grazie per l’atten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ttangolo 1"/>
          <p:cNvSpPr/>
          <p:nvPr/>
        </p:nvSpPr>
        <p:spPr>
          <a:xfrm>
            <a:off x="380880" y="1066680"/>
            <a:ext cx="85345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IL CONTESTO MACRO-ECONO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NEL 2021 CONTINUA LO STATO DI CRISI PER LA PAN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interi settori economici devasta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recarietà, nuove povertà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sperequazione dei redditi e concentrazione della ricchez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9446e"/>
                </a:solidFill>
                <a:latin typeface="Calibri"/>
              </a:rPr>
              <a:t>Obiettivo del Governo entro il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er un ritorno graduale alla “normalità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- portare avanti la campagna vacc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puntare su crescita del PIL e stabilità (Next Generation EU, PN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9446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9446e"/>
                </a:solidFill>
                <a:latin typeface="Calibri"/>
              </a:rPr>
              <a:t>Ma…….il 24 febbraio 2022 la Russia attacca l’Ucra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ttangolo 1"/>
          <p:cNvSpPr/>
          <p:nvPr/>
        </p:nvSpPr>
        <p:spPr>
          <a:xfrm>
            <a:off x="457200" y="1612800"/>
            <a:ext cx="85345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Nel corso del 202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l’Associazione ha operato nell’ambito del sistema educativo dell’istruzione e della forma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llaborando princip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con enti pubblici e privati naziona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9446e"/>
                </a:solidFill>
                <a:latin typeface="Calibri"/>
              </a:rPr>
              <a:t>(FONDER, MIUR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itolo 1"/>
          <p:cNvSpPr/>
          <p:nvPr/>
        </p:nvSpPr>
        <p:spPr>
          <a:xfrm>
            <a:off x="6019920" y="455760"/>
            <a:ext cx="281916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itolo 1"/>
          <p:cNvSpPr/>
          <p:nvPr/>
        </p:nvSpPr>
        <p:spPr>
          <a:xfrm>
            <a:off x="0" y="530280"/>
            <a:ext cx="9131400" cy="45252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A GESTIONE ECONOMICO-FINANZIARIA ED IL RISCHIO DI LIQUID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ttangolo 2"/>
          <p:cNvSpPr/>
          <p:nvPr/>
        </p:nvSpPr>
        <p:spPr>
          <a:xfrm>
            <a:off x="235080" y="1066680"/>
            <a:ext cx="8686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LA GESTIONE FINANZ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È stata attu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73"/>
                </a:solidFill>
                <a:latin typeface="Calibri"/>
              </a:rPr>
              <a:t>UN’ATTENTA E PUNTUALE GESTIONE FINANZIARIA</a:t>
            </a: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 ricorrend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dilazioni di pagamento e richieste di posticipo delle scadenze a fornitori abitu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temporanee compensazioni tra attiv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riscossioni di acconti/saldi di progetti in erogazione e/o conclusi con riconosciuto pari al 100% e riscossione totale del saldo f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62673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73"/>
                </a:solidFill>
                <a:latin typeface="Calibri"/>
              </a:rPr>
              <a:t>Anticipazioni Infruttifere da s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ttangolo 1"/>
          <p:cNvSpPr/>
          <p:nvPr/>
        </p:nvSpPr>
        <p:spPr>
          <a:xfrm>
            <a:off x="380880" y="1295280"/>
            <a:ext cx="80773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Il bilancio d’esercizio 2021 del CIOFS SCUOLA F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è stato redatto nel rispetto delle norme nazionali ed europee vigenti in mate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ttangolo 4"/>
          <p:cNvSpPr/>
          <p:nvPr/>
        </p:nvSpPr>
        <p:spPr>
          <a:xfrm>
            <a:off x="1447920" y="2666880"/>
            <a:ext cx="701028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Si compone dei seguenti document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Bilancio Ce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buClr>
                <a:srgbClr val="09446e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  <a:ea typeface="Arial"/>
              </a:rPr>
              <a:t>Nota Integra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9446e"/>
                </a:solidFill>
                <a:latin typeface="Calibri"/>
              </a:rPr>
              <a:t>e dalla Relazione del Collegio dei Revisor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9446e"/>
                </a:solidFill>
                <a:latin typeface="Calibri"/>
              </a:rPr>
              <a:t>(Controllo Legale e di Revisione Legale dei Con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ttangolo 1"/>
          <p:cNvSpPr/>
          <p:nvPr/>
        </p:nvSpPr>
        <p:spPr>
          <a:xfrm>
            <a:off x="609480" y="1295280"/>
            <a:ext cx="807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ttangolo 4"/>
          <p:cNvSpPr/>
          <p:nvPr/>
        </p:nvSpPr>
        <p:spPr>
          <a:xfrm>
            <a:off x="343080" y="220968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COMPOSI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9446e"/>
                </a:solidFill>
                <a:latin typeface="Calibri"/>
              </a:rPr>
              <a:t>DELL’ATTIVO E DEL PASSIVO PATRIMON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itolo 1"/>
          <p:cNvSpPr/>
          <p:nvPr/>
        </p:nvSpPr>
        <p:spPr>
          <a:xfrm>
            <a:off x="4114800" y="455760"/>
            <a:ext cx="472428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DATI AGGREG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itolo 1"/>
          <p:cNvSpPr/>
          <p:nvPr/>
        </p:nvSpPr>
        <p:spPr>
          <a:xfrm>
            <a:off x="25560" y="466560"/>
            <a:ext cx="8966160" cy="45900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TTIVO PATRIMONIALE – COMPOSIZIONE PERCEN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Grafico 4"/>
          <p:cNvGraphicFramePr/>
          <p:nvPr/>
        </p:nvGraphicFramePr>
        <p:xfrm>
          <a:off x="177840" y="2387520"/>
          <a:ext cx="8636040" cy="38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Gra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2387520"/>
                    <a:ext cx="8636040" cy="38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2438280" y="1181160"/>
          <a:ext cx="3810240" cy="1257120"/>
        </p:xfrm>
        <a:graphic>
          <a:graphicData uri="http://schemas.openxmlformats.org/drawingml/2006/table">
            <a:tbl>
              <a:tblPr/>
              <a:tblGrid>
                <a:gridCol w="1947960"/>
                <a:gridCol w="186228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46.68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35.234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11.449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VARIAZIONE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224b50"/>
                          </a:solidFill>
                          <a:latin typeface="Calibri"/>
                        </a:rPr>
                        <a:t>24,5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3" name="CasellaDiTesto 7"/>
          <p:cNvSpPr/>
          <p:nvPr/>
        </p:nvSpPr>
        <p:spPr>
          <a:xfrm>
            <a:off x="6524640" y="2438280"/>
            <a:ext cx="237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ncremento rispet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ll’anno prece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+ 24,5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ttangolo 4"/>
          <p:cNvSpPr/>
          <p:nvPr/>
        </p:nvSpPr>
        <p:spPr>
          <a:xfrm>
            <a:off x="266760" y="457200"/>
            <a:ext cx="861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09446e"/>
                </a:solidFill>
                <a:latin typeface="Calibri"/>
              </a:rPr>
              <a:t>PASSIVO PATRIMONIALE – COMPOSIZIONE PERCENTUA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Grafico 5"/>
          <p:cNvGraphicFramePr/>
          <p:nvPr/>
        </p:nvGraphicFramePr>
        <p:xfrm>
          <a:off x="635040" y="1473120"/>
          <a:ext cx="7645320" cy="45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6" name="Grafic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1473120"/>
                    <a:ext cx="764532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ttangolo 4"/>
          <p:cNvSpPr/>
          <p:nvPr/>
        </p:nvSpPr>
        <p:spPr>
          <a:xfrm>
            <a:off x="876240" y="2727360"/>
            <a:ext cx="78105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ttangolo 1"/>
          <p:cNvSpPr/>
          <p:nvPr/>
        </p:nvSpPr>
        <p:spPr>
          <a:xfrm>
            <a:off x="372960" y="2249640"/>
            <a:ext cx="845820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5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2060"/>
                </a:solidFill>
                <a:latin typeface="Calibri"/>
                <a:ea typeface="Calibri"/>
              </a:rPr>
              <a:t>LA DISTRIBUZIONE PERCENTUALE DEI RICAVI E DEI COSTI DI ESERCIZ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itolo 1"/>
          <p:cNvSpPr/>
          <p:nvPr/>
        </p:nvSpPr>
        <p:spPr>
          <a:xfrm>
            <a:off x="1828800" y="685800"/>
            <a:ext cx="5046840" cy="458640"/>
          </a:xfrm>
          <a:prstGeom prst="rect">
            <a:avLst/>
          </a:prstGeom>
          <a:solidFill>
            <a:srgbClr val="f2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NALISI DEI COSTI E DEI RIC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1:13:54Z</dcterms:created>
  <dc:creator>Federica Ruggiero</dc:creator>
  <dc:description/>
  <dc:language>en-US</dc:language>
  <cp:lastModifiedBy>maria paolucci</cp:lastModifiedBy>
  <cp:lastPrinted>2022-03-24T10:31:40Z</cp:lastPrinted>
  <dcterms:modified xsi:type="dcterms:W3CDTF">2022-03-26T14:00:18Z</dcterms:modified>
  <cp:revision>3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