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4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5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C73C-8E2A-4772-A282-4C2E169421B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Img"/>
          </p:nvPr>
        </p:nvSpPr>
        <p:spPr>
          <a:xfrm>
            <a:off x="0" y="5392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1023480" y="3372120"/>
            <a:ext cx="818748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F14C-AFD3-4C95-84AA-E5A1C66D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BE64-EDC0-4E88-A539-ED331FF3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31ABC-3B90-47A1-812B-7E6EC436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44646-D97C-496E-AB73-FFFD5757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EBAA6-559A-45B0-AC7C-7F9CBC80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D0944-8FC8-4B1E-9DA0-6FC5DD13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5DF54-F258-4ECE-AA91-3FB8EC4E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CD37C-142D-4B96-A820-0305D34A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BEA37-D957-40A9-A033-8386E7DB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0B794-9FFA-462E-BF41-BB889B98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34863-8B74-46A0-BB69-5E2D5C6B74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6AED83-30F2-424E-B0BC-0293A9771F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7FC-68AD-4B11-A0A9-CB3BEF2E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9BA16-DE17-42C4-A6F0-7C3EDAA6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E7F8B2-7532-4940-BB3E-54077A4C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95D2D-E741-4F00-892C-59ECCA55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AD43BA-3286-4CAD-ADF5-319C96A0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7ED8F7-EAA3-483F-A6CB-E8EB8C99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3FACE-60A9-41BB-A10D-D20BF3C3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D5DB5B-7C9B-4AB0-B133-84EC4B45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E3C8A0-C2F4-4166-BA22-65A7E7BF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CDC91C-6BD6-43B2-9114-94AA5DC5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CD3AA2-4501-4EFC-8BAE-8337E09C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EDC-D000-46D3-BBD5-DEB6F88C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348ED-4C7F-453A-9140-185D42C097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512A6D-AFFD-4622-9CC9-9C3528EDAB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3FFCD1-DFC1-4414-8F57-E6D89987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CDEFC6-FD05-4287-8144-591E3DB4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49F3B7-D84A-4723-9D16-359D266F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F15F8C-D190-46B6-B0C0-7FF50756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955F14-F9BA-4D5B-81D9-1434BEDC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F213CC-95A2-490D-A3AF-98B920FB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742E75-07C4-445E-98F4-61652000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63FD5F-1EF4-40A3-8EAE-637A1759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1A6E-FB37-433B-9769-581DAF9F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1729D9-0A89-42AF-906F-C4C5D2C4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94D2C1-2511-4362-95E5-61CFA132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4D76E3-0B0F-46D2-8CAB-5795AD8B61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3D509-7E02-4C16-BB0C-DF824939C5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4CE40-CD3C-43F8-A3AE-0A86CB45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1D9EF-026B-4C41-9E69-86A4D159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21244-EAAB-46AB-B9F5-BD58F09C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4108A-7FAD-45B1-846F-50A299AD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D293D-5CD6-4AF0-AEFA-19145CB5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CAFAE-5BB9-4B69-BBD9-E98E3B99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BCD0-50DF-42EC-9300-A8BCE124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C6D62-F1C1-4A3F-B273-8CDB3E53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274F5-A407-4CE5-84F9-94005EC7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1C42F-BF89-4135-916A-DE4191C2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97F07-AFFE-44BD-854B-44E19E43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E4A57-6ACC-4C84-910D-3CD6181508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0F02F9-40AD-44E3-9B7C-9AAEA3A4C8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FECAFB-BCFF-41D1-917B-7E62D60A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2E2B3B-7E9E-40A1-A7F8-F6279E7B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BB4DC6-5E0A-49B6-BD4E-23A1E756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2C2233-9263-4871-88D1-7ACF2B99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7A2A-96BC-4FC3-B700-983CD12D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AE0AFA-4371-4617-AA5D-1E1283A9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F6A2E5-841E-4A9F-B264-BB00EC71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40E681-D851-406F-8587-769FD686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BE6B6E-7D2B-47F4-8CDB-C2BDF33E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DCC1C9-FE50-4290-B7C5-6CA05605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B3B2D2-A97E-4F80-8F45-9C1F4A32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6DF7BC-6D0F-47C9-A6B5-28A7EC1421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5301-A88F-4EB7-B213-7D1750FF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D6DC-5F05-4393-9BDF-DA39A661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0A58-0ED0-4077-817B-8682DF0C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A3AF-2A55-470B-9740-5CF5F172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FAA-9C52-4A2A-B341-3264EC14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CF4D-2EE8-4CDA-B1F7-65692ED4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9B50-A835-492E-96D7-9E8F0A83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964F-ADB2-4114-92A2-DB66BFB5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847B-F327-4FEB-B00B-DC6B1181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B65E-2CB5-4C5C-AF94-8A403C8E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69390-DC6C-4DE6-A965-A1AEF83C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646A-03D6-4682-804D-F3881100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24E8B-2EDE-4F2A-B825-E0495B8C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863CD-5482-4D28-B219-91FA803D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EAF14-90AF-45BD-857A-AAA77BDB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DE4-DD22-418C-A2F0-45B24A4B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68E7C-D158-40FD-85A6-34558548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CDCC-31D6-4C96-8337-9E4BCBE2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1E886-E306-40A8-BF4F-5199C1CF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0B6FB-9CDB-4C57-9069-B710CFA0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9EE43-FCAD-4064-9332-E44B233A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82056-C59C-419F-BE59-E6B5A802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A9A6B-69D9-4A99-B8B9-0AF3D5EE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0C8-F2DA-4B98-8B5A-B5FE9173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D18-FF8E-4FB6-B357-0C91A1BE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C23A-66DC-4853-B391-C00B1BB2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410-FE2A-4756-991F-93B1F7D1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95FF6D-A24B-4F02-B53F-A1D6534B07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0050D1-1D6A-481D-A97A-A9886D11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EA70F2-4291-4172-AFAF-5659BF21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6B058-00E4-4A78-BF68-FE7E9B8C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6011E-3EA2-4C5D-9A54-3E126A96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893BB4-C17D-415E-80F2-8FC7D68D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AD91CA-ED74-4EFB-AED2-8A26E02C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80C-96B7-4CDC-9063-2A372193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6F32AD-8D19-46E4-8BCF-47EA025A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E4BC8-8D6B-456C-9F9F-890091A6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A44D16-C18A-4E86-9B00-4B0DD03A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8FF6BF-838E-4C66-9556-AB1B834A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E6587B-15B5-436E-9AF8-C35D80FAA0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70AE65-DC66-4E05-8574-BA6175CCC3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962B9F-6597-4065-832B-2E5B5600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1347D9-1866-4246-B50A-F332972A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23529A-154B-407B-99C5-B2F4D029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D155AB-B7FB-4AE0-A743-D1629AAE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869-82EF-4B3C-BFE2-86D4F9D2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D047FD-8359-4405-9588-3472A63E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55C6A9-FD8A-466A-ABFE-A6B5E999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F75A45-2AB3-4E6E-A094-85C3EDC6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E416F9-4C3F-4557-AE13-1C39276E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EDB0B0-FEDA-4212-A6B3-B4D70C6C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955552-265F-44A8-99DC-366F87FC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A3F2CE-401C-473C-91FF-20FD2FC9CA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FE0F7-130F-4CEE-B532-ACD098F038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6657C-97B3-4AAF-A3B5-0F9CD425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80846-BC03-4719-B310-2E16E56A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ssemblea Nazionale CIOFS-FP  Roma, 25-26 Ottobre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B520-8968-45BD-AE8A-AD891F2511A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5269-E0D2-4A84-9D78-046F6CB300C1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A10A-8D9D-49FD-B192-BEB920E3EEC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79C5-9375-4608-BFCE-99FC7C2FBCAA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8841-3B2F-4FF6-A359-EE19A4692D43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61DF-4949-486A-9A3E-53BA15AC9906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D18A-D9F5-4D46-8067-DEB597F196E5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uppo 6" descr=""/>
          <p:cNvPicPr/>
          <p:nvPr/>
        </p:nvPicPr>
        <p:blipFill>
          <a:blip r:embed="rId2"/>
          <a:stretch/>
        </p:blipFill>
        <p:spPr>
          <a:xfrm>
            <a:off x="79200" y="66600"/>
            <a:ext cx="4797720" cy="847800"/>
          </a:xfrm>
          <a:prstGeom prst="rect">
            <a:avLst/>
          </a:prstGeom>
          <a:ln w="0">
            <a:noFill/>
          </a:ln>
        </p:spPr>
      </p:pic>
      <p:sp>
        <p:nvSpPr>
          <p:cNvPr id="124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66b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uppo 4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26" name="Immagine 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  <a:ea typeface="Calibri"/>
              </a:rPr>
              <a:t>Assemblea Nazionale e CDN CIOFS-FP  Roma, 2-4 aprile 20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uppo 6" descr=""/>
          <p:cNvPicPr/>
          <p:nvPr/>
        </p:nvPicPr>
        <p:blipFill>
          <a:blip r:embed="rId2"/>
          <a:stretch/>
        </p:blipFill>
        <p:spPr>
          <a:xfrm>
            <a:off x="79200" y="73080"/>
            <a:ext cx="4797720" cy="439560"/>
          </a:xfrm>
          <a:prstGeom prst="rect">
            <a:avLst/>
          </a:prstGeom>
          <a:ln w="0">
            <a:noFill/>
          </a:ln>
        </p:spPr>
      </p:pic>
      <p:sp>
        <p:nvSpPr>
          <p:cNvPr id="168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po 10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70" name="Immagine 1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Nazionale CIOFS-FP - Roma, 25 marzo 20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Gruppo 6" descr=""/>
          <p:cNvPicPr/>
          <p:nvPr/>
        </p:nvPicPr>
        <p:blipFill>
          <a:blip r:embed="rId2"/>
          <a:stretch/>
        </p:blipFill>
        <p:spPr>
          <a:xfrm>
            <a:off x="42840" y="66600"/>
            <a:ext cx="4834080" cy="847800"/>
          </a:xfrm>
          <a:prstGeom prst="rect">
            <a:avLst/>
          </a:prstGeom>
          <a:ln w="0">
            <a:noFill/>
          </a:ln>
        </p:spPr>
      </p:pic>
      <p:sp>
        <p:nvSpPr>
          <p:cNvPr id="212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10"/>
          <p:cNvSpPr/>
          <p:nvPr/>
        </p:nvSpPr>
        <p:spPr>
          <a:xfrm>
            <a:off x="-6480" y="6570720"/>
            <a:ext cx="7412040" cy="49320"/>
          </a:xfrm>
          <a:prstGeom prst="rect">
            <a:avLst/>
          </a:prstGeom>
          <a:solidFill>
            <a:srgbClr val="ffd8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e CDN - Roma, 26/27 marzo 20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magine 12" descr=""/>
          <p:cNvPicPr/>
          <p:nvPr/>
        </p:nvPicPr>
        <p:blipFill>
          <a:blip r:embed="rId3"/>
          <a:stretch/>
        </p:blipFill>
        <p:spPr>
          <a:xfrm>
            <a:off x="7543800" y="6248520"/>
            <a:ext cx="1374840" cy="426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EAD9-2178-4215-9AFE-B20EFB878E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03FB-1862-4791-97C1-284B1E5AF5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C143-048B-46F0-8A36-2B6354C63F16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ttangolo 40"/>
          <p:cNvSpPr/>
          <p:nvPr/>
        </p:nvSpPr>
        <p:spPr>
          <a:xfrm>
            <a:off x="0" y="5811840"/>
            <a:ext cx="9140760" cy="104616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tolo 1"/>
          <p:cNvSpPr/>
          <p:nvPr/>
        </p:nvSpPr>
        <p:spPr>
          <a:xfrm>
            <a:off x="228600" y="6194520"/>
            <a:ext cx="2975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ttangolo 37"/>
          <p:cNvSpPr/>
          <p:nvPr/>
        </p:nvSpPr>
        <p:spPr>
          <a:xfrm flipV="1" rot="10800000">
            <a:off x="2743200" y="406800"/>
            <a:ext cx="4332240" cy="173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oma, 26 marzo 20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41"/>
          <p:cNvSpPr/>
          <p:nvPr/>
        </p:nvSpPr>
        <p:spPr>
          <a:xfrm>
            <a:off x="0" y="3232080"/>
            <a:ext cx="9144000" cy="141120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19360" y="3648240"/>
            <a:ext cx="4360680" cy="14112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CIOFS SCUOLA FMA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BILANCIO 202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PREVENTIVO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Immagine 1" descr=""/>
          <p:cNvPicPr/>
          <p:nvPr/>
        </p:nvPicPr>
        <p:blipFill>
          <a:blip r:embed="rId1"/>
          <a:stretch/>
        </p:blipFill>
        <p:spPr>
          <a:xfrm>
            <a:off x="3425760" y="5905440"/>
            <a:ext cx="22449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ttangolo 1"/>
          <p:cNvSpPr/>
          <p:nvPr/>
        </p:nvSpPr>
        <p:spPr>
          <a:xfrm>
            <a:off x="510480" y="457200"/>
            <a:ext cx="207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L FATTURA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ttangolo 2"/>
          <p:cNvSpPr/>
          <p:nvPr/>
        </p:nvSpPr>
        <p:spPr>
          <a:xfrm>
            <a:off x="1714680" y="93492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 +40,5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133720" y="1295280"/>
          <a:ext cx="4572000" cy="1344600"/>
        </p:xfrm>
        <a:graphic>
          <a:graphicData uri="http://schemas.openxmlformats.org/drawingml/2006/table">
            <a:tbl>
              <a:tblPr/>
              <a:tblGrid>
                <a:gridCol w="2350800"/>
                <a:gridCol w="222120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CONTO ECONOM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RIC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149.03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88.67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60.35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VARIAZIONI % 2021/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40,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Rettangolo 5"/>
          <p:cNvSpPr/>
          <p:nvPr/>
        </p:nvSpPr>
        <p:spPr>
          <a:xfrm>
            <a:off x="-152280" y="2814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 Light"/>
                <a:ea typeface="Calibri"/>
              </a:rPr>
              <a:t>Distribuzione percentuale dei ricavi per progetti/a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Grafico 11"/>
          <p:cNvGraphicFramePr/>
          <p:nvPr/>
        </p:nvGraphicFramePr>
        <p:xfrm>
          <a:off x="196920" y="2763720"/>
          <a:ext cx="8750160" cy="36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5" name="Grafico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763720"/>
                    <a:ext cx="875016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"/>
          <p:cNvSpPr/>
          <p:nvPr/>
        </p:nvSpPr>
        <p:spPr>
          <a:xfrm>
            <a:off x="380880" y="2494080"/>
            <a:ext cx="8458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70c0"/>
                </a:solidFill>
                <a:latin typeface="Calibri"/>
              </a:rPr>
              <a:t>LA DISTRIBUZIONE PERCENTUALE DEI C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ttangolo 1"/>
          <p:cNvSpPr/>
          <p:nvPr/>
        </p:nvSpPr>
        <p:spPr>
          <a:xfrm>
            <a:off x="538560" y="457200"/>
            <a:ext cx="110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COS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ttangolo 2"/>
          <p:cNvSpPr/>
          <p:nvPr/>
        </p:nvSpPr>
        <p:spPr>
          <a:xfrm flipH="1">
            <a:off x="7127280" y="1041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l +25,58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Grafico 7"/>
          <p:cNvGraphicFramePr/>
          <p:nvPr/>
        </p:nvGraphicFramePr>
        <p:xfrm>
          <a:off x="177840" y="2692440"/>
          <a:ext cx="8559720" cy="39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1" name="Gra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692440"/>
                    <a:ext cx="855972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CasellaDiTesto 2"/>
          <p:cNvSpPr/>
          <p:nvPr/>
        </p:nvSpPr>
        <p:spPr>
          <a:xfrm>
            <a:off x="969840" y="2676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  <a:ea typeface="Calibri"/>
              </a:rPr>
              <a:t>DISTRIBUZIONE PERCENTUALE DEI C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905120" y="1014480"/>
          <a:ext cx="4800600" cy="1533600"/>
        </p:xfrm>
        <a:graphic>
          <a:graphicData uri="http://schemas.openxmlformats.org/drawingml/2006/table">
            <a:tbl>
              <a:tblPr/>
              <a:tblGrid>
                <a:gridCol w="2468520"/>
                <a:gridCol w="2332080"/>
              </a:tblGrid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NTO ECONOMIC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S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51.36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12.64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ASSOLU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38.71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5,5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ttangolo 1"/>
          <p:cNvSpPr/>
          <p:nvPr/>
        </p:nvSpPr>
        <p:spPr>
          <a:xfrm>
            <a:off x="543600" y="360360"/>
            <a:ext cx="3987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Risultato di eserciz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ttangolo 2"/>
          <p:cNvSpPr/>
          <p:nvPr/>
        </p:nvSpPr>
        <p:spPr>
          <a:xfrm flipH="1">
            <a:off x="762120" y="1371600"/>
            <a:ext cx="7696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A seguito delle risultanze di bilan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si  evidenz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 u="sng">
                <a:solidFill>
                  <a:srgbClr val="09446e"/>
                </a:solidFill>
                <a:uFillTx/>
                <a:latin typeface="Calibri"/>
              </a:rPr>
              <a:t>un disavanzo di esercizi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  3.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dopo le imposte per IRAP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</a:t>
            </a: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6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DEMPIMENTI LEGISL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ttangolo 2"/>
          <p:cNvSpPr/>
          <p:nvPr/>
        </p:nvSpPr>
        <p:spPr>
          <a:xfrm>
            <a:off x="152280" y="1282680"/>
            <a:ext cx="8686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2060"/>
                </a:solidFill>
                <a:latin typeface="Calibri"/>
              </a:rPr>
              <a:t>Rispettate le norme in materia d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CCANTONAMENTO TF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Le somme maturate a favore dei dipendenti nel fondo esposto in bilancio sono state versate su un apposito conto assicurativo, per garantire l’immediata disponibilità monet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GGIORNAMENTO DEL PERSONALE INTER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attraverso specifici Percorsi di Formazione sulla base dei fabbisogni espr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PROSPETTIVE PER IL 202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ttangolo 2"/>
          <p:cNvSpPr/>
          <p:nvPr/>
        </p:nvSpPr>
        <p:spPr>
          <a:xfrm>
            <a:off x="33480" y="923760"/>
            <a:ext cx="8686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SI PREVEDE UN FATTURATO GLOBALE IN LIEVE FLESSIONE RISPETTO ALL’ANNO PRECE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Sarebbe auspicabile sostenere le attività istituzionali con: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ricorso più massiccio al Fon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ipotesi di adesione al Terzo Sett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PERC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L’ente è già organizzato a livello amministrativo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migliorata la capacità organizzativo-gest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che grazie all’utilizzo di software di cont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VOTAZ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ttangolo 2"/>
          <p:cNvSpPr/>
          <p:nvPr/>
        </p:nvSpPr>
        <p:spPr>
          <a:xfrm>
            <a:off x="152280" y="128268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Alla luce delle considerazioni svolte nei punti precedenti e di quanto esposto nella Nota Integ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la Segretaria 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Vi propone di approvare il progetto di bilancio che Vi viene sottop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e di coprire il disavanzo di gestione pari ad euro </a:t>
            </a:r>
            <a:r>
              <a:rPr b="0" i="1" lang="it-IT" sz="2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3.000 con il Fondo Associ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itolo 1"/>
          <p:cNvSpPr/>
          <p:nvPr/>
        </p:nvSpPr>
        <p:spPr>
          <a:xfrm>
            <a:off x="0" y="76320"/>
            <a:ext cx="91440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EVENTIVO ESERCIZI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abella 6" descr=""/>
          <p:cNvPicPr/>
          <p:nvPr/>
        </p:nvPicPr>
        <p:blipFill>
          <a:blip r:embed="rId1"/>
          <a:stretch/>
        </p:blipFill>
        <p:spPr>
          <a:xfrm>
            <a:off x="371520" y="414360"/>
            <a:ext cx="8102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ttangolo 40"/>
          <p:cNvSpPr/>
          <p:nvPr/>
        </p:nvSpPr>
        <p:spPr>
          <a:xfrm>
            <a:off x="0" y="5257800"/>
            <a:ext cx="9140760" cy="1600200"/>
          </a:xfrm>
          <a:prstGeom prst="rect">
            <a:avLst/>
          </a:prstGeom>
          <a:solidFill>
            <a:srgbClr val="efe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ttangolo 41"/>
          <p:cNvSpPr/>
          <p:nvPr/>
        </p:nvSpPr>
        <p:spPr>
          <a:xfrm>
            <a:off x="0" y="2895480"/>
            <a:ext cx="9144000" cy="67968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7927920" cy="67968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  <a:ea typeface="Calibri"/>
              </a:rPr>
              <a:t>Grazie per l’atten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ttangolo 1"/>
          <p:cNvSpPr/>
          <p:nvPr/>
        </p:nvSpPr>
        <p:spPr>
          <a:xfrm>
            <a:off x="380880" y="1066680"/>
            <a:ext cx="85345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IL CONTESTO MACRO-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NEL 2021 CONTINUA LO STATO DI CRISI PER LA PAN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interi settori economici devast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recarietà, nuove povertà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sperequazione dei redditi e concentrazione della ricchez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Obiettivo del Governo entro il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er un ritorno graduale alla “normalità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portare avanti la campagna vacc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untare su crescita del PIL e stabilità (Next Generation EU, PN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Ma…….il 24 febbraio 2022 la Russia attacca l’Ucra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ttangolo 1"/>
          <p:cNvSpPr/>
          <p:nvPr/>
        </p:nvSpPr>
        <p:spPr>
          <a:xfrm>
            <a:off x="457200" y="161280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Nel corso del 202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l’Associazione ha operato nell’ambito del sistema educativo dell’istruzione e della form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llaborando princip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n enti pubblici e privati nazio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(FONDER, MIUR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itolo 1"/>
          <p:cNvSpPr/>
          <p:nvPr/>
        </p:nvSpPr>
        <p:spPr>
          <a:xfrm>
            <a:off x="6019920" y="455760"/>
            <a:ext cx="281916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olo 1"/>
          <p:cNvSpPr/>
          <p:nvPr/>
        </p:nvSpPr>
        <p:spPr>
          <a:xfrm>
            <a:off x="0" y="5302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 GESTIONE ECONOMICO-FINANZIARIA ED IL RISCHIO DI LIQUID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ttangolo 2"/>
          <p:cNvSpPr/>
          <p:nvPr/>
        </p:nvSpPr>
        <p:spPr>
          <a:xfrm>
            <a:off x="235080" y="1066680"/>
            <a:ext cx="8686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LA GESTIONE FINANZ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stata attu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UN’ATTENTA E PUNTUALE GESTIONE FINANZIARIA</a:t>
            </a: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 ricorren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dilazioni di pagamento e richieste di posticipo delle scadenze a fornitori abitu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temporanee compensazioni tra attiv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riscossioni di acconti/saldi di progetti in erogazione e/o conclusi con riconosciuto pari al 100% e riscossione totale del saldo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ticipazioni Infruttifere da s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ttangolo 1"/>
          <p:cNvSpPr/>
          <p:nvPr/>
        </p:nvSpPr>
        <p:spPr>
          <a:xfrm>
            <a:off x="380880" y="1295280"/>
            <a:ext cx="8077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Il bilancio d’esercizio 2021 del CIOFS SCUOLA F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è stato redatto nel rispetto delle norme nazionali ed europee vigenti in mate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ttangolo 4"/>
          <p:cNvSpPr/>
          <p:nvPr/>
        </p:nvSpPr>
        <p:spPr>
          <a:xfrm>
            <a:off x="1447920" y="2666880"/>
            <a:ext cx="701028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Si compone dei seguenti documen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Bilancio C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Nota Integ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e dalla Relazione del Collegio dei Revisor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9446e"/>
                </a:solidFill>
                <a:latin typeface="Calibri"/>
              </a:rPr>
              <a:t>(Controllo Legale e di Revisione Legale dei Co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ttangolo 1"/>
          <p:cNvSpPr/>
          <p:nvPr/>
        </p:nvSpPr>
        <p:spPr>
          <a:xfrm>
            <a:off x="609480" y="129528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4"/>
          <p:cNvSpPr/>
          <p:nvPr/>
        </p:nvSpPr>
        <p:spPr>
          <a:xfrm>
            <a:off x="343080" y="220968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COMPOSI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DELL’ATTIVO E DEL PASSIVO PATRIMON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olo 1"/>
          <p:cNvSpPr/>
          <p:nvPr/>
        </p:nvSpPr>
        <p:spPr>
          <a:xfrm>
            <a:off x="4114800" y="455760"/>
            <a:ext cx="472428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DATI AGGREG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itolo 1"/>
          <p:cNvSpPr/>
          <p:nvPr/>
        </p:nvSpPr>
        <p:spPr>
          <a:xfrm>
            <a:off x="25560" y="466560"/>
            <a:ext cx="8966160" cy="4590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TTIVO PATRIMONIALE – COMPOSIZIONE PERCEN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Grafico 4"/>
          <p:cNvGraphicFramePr/>
          <p:nvPr/>
        </p:nvGraphicFramePr>
        <p:xfrm>
          <a:off x="177840" y="2387520"/>
          <a:ext cx="8636040" cy="38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Gra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387520"/>
                    <a:ext cx="86360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438280" y="1181160"/>
          <a:ext cx="3810240" cy="1257120"/>
        </p:xfrm>
        <a:graphic>
          <a:graphicData uri="http://schemas.openxmlformats.org/drawingml/2006/table">
            <a:tbl>
              <a:tblPr/>
              <a:tblGrid>
                <a:gridCol w="1947960"/>
                <a:gridCol w="186228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46.68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35.23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11.449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4,5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CasellaDiTesto 7"/>
          <p:cNvSpPr/>
          <p:nvPr/>
        </p:nvSpPr>
        <p:spPr>
          <a:xfrm>
            <a:off x="6524640" y="243828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cremento rispe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ll’anno pre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+ 24,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ttangolo 4"/>
          <p:cNvSpPr/>
          <p:nvPr/>
        </p:nvSpPr>
        <p:spPr>
          <a:xfrm>
            <a:off x="266760" y="457200"/>
            <a:ext cx="861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PASSIVO PATRIMONIALE – COMPOSIZIONE PERCENTU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Grafico 5"/>
          <p:cNvGraphicFramePr/>
          <p:nvPr/>
        </p:nvGraphicFramePr>
        <p:xfrm>
          <a:off x="635040" y="1473120"/>
          <a:ext cx="7645320" cy="45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Gra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473120"/>
                    <a:ext cx="76453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ttangolo 1"/>
          <p:cNvSpPr/>
          <p:nvPr/>
        </p:nvSpPr>
        <p:spPr>
          <a:xfrm>
            <a:off x="372960" y="2249640"/>
            <a:ext cx="84582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  <a:ea typeface="Calibri"/>
              </a:rPr>
              <a:t>LA DISTRIBUZIONE PERCENTUALE DEI RICAVI E DEI COSTI DI ESERCIZ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itolo 1"/>
          <p:cNvSpPr/>
          <p:nvPr/>
        </p:nvSpPr>
        <p:spPr>
          <a:xfrm>
            <a:off x="1828800" y="685800"/>
            <a:ext cx="504684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COSTI E DEI RIC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13:54Z</dcterms:created>
  <dc:creator>Federica Ruggiero</dc:creator>
  <dc:description/>
  <dc:language>en-US</dc:language>
  <cp:lastModifiedBy>maria paolucci</cp:lastModifiedBy>
  <cp:lastPrinted>2022-03-24T10:31:40Z</cp:lastPrinted>
  <dcterms:modified xsi:type="dcterms:W3CDTF">2022-03-26T14:00:18Z</dcterms:modified>
  <cp:revision>3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