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4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5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4559-1AD2-4A3C-9A21-E622357E87D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Img"/>
          </p:nvPr>
        </p:nvSpPr>
        <p:spPr>
          <a:xfrm>
            <a:off x="0" y="53928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body"/>
          </p:nvPr>
        </p:nvSpPr>
        <p:spPr>
          <a:xfrm>
            <a:off x="1023480" y="3372120"/>
            <a:ext cx="8187480" cy="3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egnaposto piè di pagina 6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egnaposto piè di pagina 6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CE33-9C99-4DA7-8DFD-EA74AB12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981F-288C-451A-BB9B-3BC18F11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54599-8BF8-4DE6-8DA9-EDEFAAC7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A6426-A5DE-462B-A2AC-E54554BF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09ED6-BC73-447A-95D6-3541FE26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C6DE6-7979-47B0-8BC6-95039579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69384-9227-423F-8AC1-481BCA87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0D547-244E-4FF7-8723-39159B47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9B082-5F35-4D10-85D0-9E596710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490A8-8200-43E8-B7E5-C3ABDFC5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F1432-60F7-4954-88BB-3231C5311E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96A7A2-7AC3-4458-AE56-70266BA9F3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E812-8A4A-4ED4-9D40-877A2741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1AE9C7-5ED9-4BC8-82B5-5DEA4232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BB3F2B-01A7-4AC0-BF72-7D0BA83E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07AE27-B17A-4914-853F-E945E229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4B373B-8203-4334-BA6B-20FCC419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AC30E2-569B-4205-9A19-0DA4448E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EEA749-D416-4F45-87FD-D102471B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1A285B-CB1F-4594-9C98-BC16A1E7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99D1CE-2D02-44C8-8BCB-DD0B0C6C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AAF629-D032-4C6B-B283-AD974B82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7CE64D-ED26-456B-B2A0-D707248E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D86C-7C7B-4D7F-8062-279598F6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89AA7B-11A4-488D-94B3-5F0DF3D49A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535768-770D-465C-8697-47DC543C55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F007D0-8709-4B3E-B83E-B3E29680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B0DB07-7EC2-49BC-B41A-D5784F9F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A1E61C-9F2B-4366-A367-E0311BE5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9C1E2A-4083-41E3-8081-579D28D8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338B14-094A-4D53-B51B-C2E92953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22BD8E-8F0E-45B0-8731-36A93A38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FC107B-9B87-4B05-81A1-82693E61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2E5850-7888-4828-8375-CC51AA8F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E8C4-F44F-4572-B64E-5D2FC50F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E0A4F4-1040-4609-BC69-F6ED4CF4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72CF53-8C0D-4EAD-BF3B-C221140A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8978B5-7720-4734-AAE3-857BF102D0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2A749-E5B9-4965-B998-D982650E29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0D58F-DE36-4BBB-81A1-19333EB0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E3D0D-14B7-499D-B9E1-4769EAB5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5AE3E-DDDF-4CBD-9454-5991BB06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7B763-AA65-490D-81B6-164CFD84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55D0B-219E-46FB-BE33-830E9E43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98E61-1623-4F60-B5C6-AF7B2C1E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AB1B-F275-4152-A938-C93ABAA0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073E7-53C5-47FC-A548-AA863CF7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0B0BD-07E2-4E19-BC47-95703EAF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1FA10-52D7-46CF-AA89-88F97D97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E0B3C-5089-4ED2-AC16-0E2A30DC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60B39-79BC-4F65-A235-165B719E5B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6DF23A-455D-4107-BF03-4C04D00F29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B47FC5-9DF1-4E6E-8C98-B9729C56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77866D-C363-479E-B2AB-4CF50937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BA693A-B97F-4E54-B6A8-9AED058F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53168A-5F08-4BDF-B432-6BDDD8837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FC0F-3FA1-45EE-80B4-6CAF256A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5E245C-CE13-42A1-A88E-176282E5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E88BE2-FA92-4E40-991F-57A2F8BE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1B9CF3-5863-468F-B59B-0C3A430A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E95197-421F-46C4-8437-3C5AE997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DB6F0B-58F7-44BA-AFD8-B0F69E3B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2FBAC5-A45F-4BA6-88DE-86DF18E3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235C0A-7D08-4D7B-9CF0-79F19544BC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79B9-1150-4A5C-BBCB-8DB9DBD0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1641-7E0C-4F4D-AD6E-421E2189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55D4-B522-4706-9784-2ADB952A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A968-9507-43AD-8BDF-0D1064B2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79B0-D019-4B9A-89DE-052FD55A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6FF5-A6C1-499D-9A57-9A781355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0447-12C5-46C2-910A-21BE7CB9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C841-E0B8-40DC-8571-8E965769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52AA-9BDB-4629-9CB0-D0E01899C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7A2B-9040-4F0A-B48F-ACC0BA68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EB7B6-1D11-4AA6-A8EE-092F5761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2448E-F6EF-426C-8536-AC7FAE93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7A12D-8863-4B2E-9066-20C515E9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3827B-A36B-4704-B4DA-94CEB024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B34BA-0AF7-4EDC-9A6C-F24996DB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317F-C6E8-4E37-9420-BD58A7BF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116AA-58C1-4E5B-A6A9-A40A4B91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05FDB-7A83-40FD-A6A6-A27D0375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69688-B326-48D5-B89C-BFF2FB6C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38A44-0828-4867-BDB1-C1C2C76E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DBEAE-2C29-4393-A69C-77B3481D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1537A-AF65-4A64-9227-7C0C71A3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CD3DF-0E0A-43B6-967E-1183F379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EE38-8FB4-470B-B8D7-89EDB55A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9817-FA4B-479C-A18E-ACF512E7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2C42-13FF-41BE-8B2C-6A0CEEF5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E04F-F1C3-4B2D-B7BC-978CC817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8D7C69-B233-4BFE-A591-934EA0421D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B29D56-A4FC-42DE-845A-AD905F0C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E99C33-1773-4F68-8589-4CBB3D43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F636FE-2B7F-49D1-9E1C-E4C78F81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85F92F-AD09-47E3-97B0-B7B40B1A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46367B-B4F8-4A92-9290-0011BAF4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F63213-56BC-444E-AB07-8856B6CF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490F-5E13-4BFF-BE1F-B015652E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16E67A-5DAA-4247-8593-3BF895F2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9D2430-4583-4EAD-8B7C-298A0209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F0C526-EC22-4CC3-9B5A-2D9FBAC7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6FD395-19E6-421E-8F4C-1E0D075C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DEA053-553F-4FE2-BF97-C04F6E67B0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D809E6-6A4C-4576-B180-1DFF6B4E8B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89193B-BA0F-4653-98CA-0819C108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5DD28D-4B78-441F-A74E-2960822D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1A83DD-1EC1-4902-ABF6-5337A3C8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537D6D-C93B-417E-ACB3-06CA39F4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5CA1-AD50-4059-8BFC-FB4B546E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66D2D2-7CB0-4636-B12D-A42A4B44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93AF78-660C-4C5B-B7B5-A27308C2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490DE1-CBA6-48E0-A039-BFEF1EFB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4CC9CB-42D1-4FB3-8ED8-ECF06FE0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BDC146-F169-4FB5-B82A-74246F98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A2F8AB-6C7C-40B7-8941-77590C75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7BA3A7-6FED-482B-99AC-2D5478818C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FECFC-D18B-4831-B03E-C477D926E6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F4073-314A-4A23-9BEA-552A87BA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393AE-E59F-4F09-BEC2-2A508404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ssemblea Nazionale CIOFS-FP  Roma, 25-26 Ottobre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4CE6-27B6-4AE7-9AAD-6A6EAA078B3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2067-736C-444A-A342-904FD2A302B7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A32F-EB78-40BE-81FD-ED6E71C33FA9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6061-A3BA-4D7B-8F85-724C9216EA9F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328E-F1C9-43A8-9D54-D4E78DBE1974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8DFA-C86F-4A28-AB78-1B8D535DDE47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A7DB-CB5F-41F2-9A75-404836D3FA9A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Gruppo 6" descr=""/>
          <p:cNvPicPr/>
          <p:nvPr/>
        </p:nvPicPr>
        <p:blipFill>
          <a:blip r:embed="rId2"/>
          <a:stretch/>
        </p:blipFill>
        <p:spPr>
          <a:xfrm>
            <a:off x="79200" y="66600"/>
            <a:ext cx="4797720" cy="847800"/>
          </a:xfrm>
          <a:prstGeom prst="rect">
            <a:avLst/>
          </a:prstGeom>
          <a:ln w="0">
            <a:noFill/>
          </a:ln>
        </p:spPr>
      </p:pic>
      <p:sp>
        <p:nvSpPr>
          <p:cNvPr id="124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66b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uppo 4"/>
          <p:cNvGrpSpPr/>
          <p:nvPr/>
        </p:nvGrpSpPr>
        <p:grpSpPr>
          <a:xfrm>
            <a:off x="-6480" y="6391440"/>
            <a:ext cx="9041040" cy="237960"/>
            <a:chOff x="-6480" y="6391440"/>
            <a:chExt cx="9041040" cy="237960"/>
          </a:xfrm>
        </p:grpSpPr>
        <p:pic>
          <p:nvPicPr>
            <p:cNvPr id="126" name="Immagine 1" descr=""/>
            <p:cNvPicPr/>
            <p:nvPr/>
          </p:nvPicPr>
          <p:blipFill>
            <a:blip r:embed="rId3"/>
            <a:stretch/>
          </p:blipFill>
          <p:spPr>
            <a:xfrm>
              <a:off x="7543800" y="6391440"/>
              <a:ext cx="14907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ttangolo 12"/>
            <p:cNvSpPr/>
            <p:nvPr/>
          </p:nvSpPr>
          <p:spPr>
            <a:xfrm>
              <a:off x="-6480" y="6570720"/>
              <a:ext cx="7412400" cy="48960"/>
            </a:xfrm>
            <a:prstGeom prst="rect">
              <a:avLst/>
            </a:prstGeom>
            <a:solidFill>
              <a:srgbClr val="ffd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  <a:ea typeface="Calibri"/>
              </a:rPr>
              <a:t>Assemblea Nazionale e CDN CIOFS-FP  Roma, 2-4 aprile 20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Gruppo 6" descr=""/>
          <p:cNvPicPr/>
          <p:nvPr/>
        </p:nvPicPr>
        <p:blipFill>
          <a:blip r:embed="rId2"/>
          <a:stretch/>
        </p:blipFill>
        <p:spPr>
          <a:xfrm>
            <a:off x="79200" y="73080"/>
            <a:ext cx="4797720" cy="439560"/>
          </a:xfrm>
          <a:prstGeom prst="rect">
            <a:avLst/>
          </a:prstGeom>
          <a:ln w="0">
            <a:noFill/>
          </a:ln>
        </p:spPr>
      </p:pic>
      <p:sp>
        <p:nvSpPr>
          <p:cNvPr id="168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uppo 10"/>
          <p:cNvGrpSpPr/>
          <p:nvPr/>
        </p:nvGrpSpPr>
        <p:grpSpPr>
          <a:xfrm>
            <a:off x="-6480" y="6391440"/>
            <a:ext cx="9041040" cy="237960"/>
            <a:chOff x="-6480" y="6391440"/>
            <a:chExt cx="9041040" cy="237960"/>
          </a:xfrm>
        </p:grpSpPr>
        <p:pic>
          <p:nvPicPr>
            <p:cNvPr id="170" name="Immagine 11" descr=""/>
            <p:cNvPicPr/>
            <p:nvPr/>
          </p:nvPicPr>
          <p:blipFill>
            <a:blip r:embed="rId3"/>
            <a:stretch/>
          </p:blipFill>
          <p:spPr>
            <a:xfrm>
              <a:off x="7543800" y="6391440"/>
              <a:ext cx="14907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Rettangolo 12"/>
            <p:cNvSpPr/>
            <p:nvPr/>
          </p:nvSpPr>
          <p:spPr>
            <a:xfrm>
              <a:off x="-6480" y="6570720"/>
              <a:ext cx="7412400" cy="48960"/>
            </a:xfrm>
            <a:prstGeom prst="rect">
              <a:avLst/>
            </a:prstGeom>
            <a:solidFill>
              <a:srgbClr val="ffd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9446e"/>
                </a:solidFill>
                <a:latin typeface="Calibri"/>
                <a:ea typeface="Calibri"/>
              </a:rPr>
              <a:t>Assemblea Nazionale CIOFS-FP - Roma, 25 marzo 20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Gruppo 6" descr=""/>
          <p:cNvPicPr/>
          <p:nvPr/>
        </p:nvPicPr>
        <p:blipFill>
          <a:blip r:embed="rId2"/>
          <a:stretch/>
        </p:blipFill>
        <p:spPr>
          <a:xfrm>
            <a:off x="42840" y="66600"/>
            <a:ext cx="4834080" cy="847800"/>
          </a:xfrm>
          <a:prstGeom prst="rect">
            <a:avLst/>
          </a:prstGeom>
          <a:ln w="0">
            <a:noFill/>
          </a:ln>
        </p:spPr>
      </p:pic>
      <p:sp>
        <p:nvSpPr>
          <p:cNvPr id="212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ttangolo 10"/>
          <p:cNvSpPr/>
          <p:nvPr/>
        </p:nvSpPr>
        <p:spPr>
          <a:xfrm>
            <a:off x="-6480" y="6570720"/>
            <a:ext cx="7412040" cy="49320"/>
          </a:xfrm>
          <a:prstGeom prst="rect">
            <a:avLst/>
          </a:prstGeom>
          <a:solidFill>
            <a:srgbClr val="ffd8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9446e"/>
                </a:solidFill>
                <a:latin typeface="Calibri"/>
                <a:ea typeface="Calibri"/>
              </a:rPr>
              <a:t>Assemblea e CDN - Roma, 26/27 marzo 20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magine 12" descr=""/>
          <p:cNvPicPr/>
          <p:nvPr/>
        </p:nvPicPr>
        <p:blipFill>
          <a:blip r:embed="rId3"/>
          <a:stretch/>
        </p:blipFill>
        <p:spPr>
          <a:xfrm>
            <a:off x="7543800" y="6248520"/>
            <a:ext cx="1374840" cy="4269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55C5-F9B8-42CA-B64F-0DEEA40B3F5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B56C-C4D6-4490-B6AC-06053938344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31A5-C1B2-46D4-85C5-6FF8FBFE81D7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ttangolo 40"/>
          <p:cNvSpPr/>
          <p:nvPr/>
        </p:nvSpPr>
        <p:spPr>
          <a:xfrm>
            <a:off x="0" y="5811840"/>
            <a:ext cx="9140760" cy="104616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itolo 1"/>
          <p:cNvSpPr/>
          <p:nvPr/>
        </p:nvSpPr>
        <p:spPr>
          <a:xfrm>
            <a:off x="228600" y="6194520"/>
            <a:ext cx="2975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ttangolo 35"/>
          <p:cNvSpPr/>
          <p:nvPr/>
        </p:nvSpPr>
        <p:spPr>
          <a:xfrm>
            <a:off x="7927920" y="839880"/>
            <a:ext cx="1216080" cy="1295280"/>
          </a:xfrm>
          <a:prstGeom prst="rect">
            <a:avLst/>
          </a:prstGeom>
          <a:solidFill>
            <a:srgbClr val="7b2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ttangolo 37"/>
          <p:cNvSpPr/>
          <p:nvPr/>
        </p:nvSpPr>
        <p:spPr>
          <a:xfrm flipV="1" rot="10800000">
            <a:off x="2743200" y="406800"/>
            <a:ext cx="4332240" cy="1731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Roma, 26 marzo 20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CD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ttangolo 41"/>
          <p:cNvSpPr/>
          <p:nvPr/>
        </p:nvSpPr>
        <p:spPr>
          <a:xfrm>
            <a:off x="0" y="3232080"/>
            <a:ext cx="9144000" cy="141120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ttangolo 27"/>
          <p:cNvSpPr/>
          <p:nvPr/>
        </p:nvSpPr>
        <p:spPr>
          <a:xfrm>
            <a:off x="7075440" y="2135160"/>
            <a:ext cx="852480" cy="4428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ttangolo 32"/>
          <p:cNvSpPr/>
          <p:nvPr/>
        </p:nvSpPr>
        <p:spPr>
          <a:xfrm>
            <a:off x="7075440" y="-23760"/>
            <a:ext cx="852480" cy="86364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19360" y="3648240"/>
            <a:ext cx="4360680" cy="14112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CIOFS SCUOLA FMA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- BILANCIO 202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- PREVENTIVO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Immagine 1" descr=""/>
          <p:cNvPicPr/>
          <p:nvPr/>
        </p:nvPicPr>
        <p:blipFill>
          <a:blip r:embed="rId1"/>
          <a:stretch/>
        </p:blipFill>
        <p:spPr>
          <a:xfrm>
            <a:off x="3425760" y="5905440"/>
            <a:ext cx="22449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ttangolo 1"/>
          <p:cNvSpPr/>
          <p:nvPr/>
        </p:nvSpPr>
        <p:spPr>
          <a:xfrm>
            <a:off x="510480" y="457200"/>
            <a:ext cx="207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L FATTURA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ttangolo 2"/>
          <p:cNvSpPr/>
          <p:nvPr/>
        </p:nvSpPr>
        <p:spPr>
          <a:xfrm>
            <a:off x="1714680" y="93492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</a:rPr>
              <a:t>Incremento rispetto all’esercizio precedente pari a +40,5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2133720" y="1295280"/>
          <a:ext cx="4572000" cy="1344600"/>
        </p:xfrm>
        <a:graphic>
          <a:graphicData uri="http://schemas.openxmlformats.org/drawingml/2006/table">
            <a:tbl>
              <a:tblPr/>
              <a:tblGrid>
                <a:gridCol w="2350800"/>
                <a:gridCol w="2221200"/>
              </a:tblGrid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CONTO ECONOM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RICAV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20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149.03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88.674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60.358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VARIAZIONI % 2021/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40,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3" name="Rettangolo 5"/>
          <p:cNvSpPr/>
          <p:nvPr/>
        </p:nvSpPr>
        <p:spPr>
          <a:xfrm>
            <a:off x="-152280" y="28144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0c0"/>
                </a:solidFill>
                <a:latin typeface="Calibri Light"/>
                <a:ea typeface="Calibri"/>
              </a:rPr>
              <a:t>Distribuzione percentuale dei ricavi per progetti/attiv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Grafico 11"/>
          <p:cNvGraphicFramePr/>
          <p:nvPr/>
        </p:nvGraphicFramePr>
        <p:xfrm>
          <a:off x="196920" y="2763720"/>
          <a:ext cx="8750160" cy="367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5" name="Grafico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2763720"/>
                    <a:ext cx="875016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ttangolo 4"/>
          <p:cNvSpPr/>
          <p:nvPr/>
        </p:nvSpPr>
        <p:spPr>
          <a:xfrm>
            <a:off x="876240" y="2727360"/>
            <a:ext cx="7810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ttangolo 1"/>
          <p:cNvSpPr/>
          <p:nvPr/>
        </p:nvSpPr>
        <p:spPr>
          <a:xfrm>
            <a:off x="380880" y="2494080"/>
            <a:ext cx="84582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70c0"/>
                </a:solidFill>
                <a:latin typeface="Calibri"/>
              </a:rPr>
              <a:t>LA DISTRIBUZIONE PERCENTUALE DEI C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ttangolo 1"/>
          <p:cNvSpPr/>
          <p:nvPr/>
        </p:nvSpPr>
        <p:spPr>
          <a:xfrm>
            <a:off x="538560" y="457200"/>
            <a:ext cx="110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 COST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ttangolo 2"/>
          <p:cNvSpPr/>
          <p:nvPr/>
        </p:nvSpPr>
        <p:spPr>
          <a:xfrm flipH="1">
            <a:off x="7127280" y="1041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</a:rPr>
              <a:t>Incremento rispetto all’esercizio precedente pari al +25,58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Grafico 7"/>
          <p:cNvGraphicFramePr/>
          <p:nvPr/>
        </p:nvGraphicFramePr>
        <p:xfrm>
          <a:off x="177840" y="2692440"/>
          <a:ext cx="8559720" cy="392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1" name="Grafico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692440"/>
                    <a:ext cx="855972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CasellaDiTesto 2"/>
          <p:cNvSpPr/>
          <p:nvPr/>
        </p:nvSpPr>
        <p:spPr>
          <a:xfrm>
            <a:off x="969840" y="26766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  <a:ea typeface="Calibri"/>
              </a:rPr>
              <a:t>DISTRIBUZIONE PERCENTUALE DEI C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1905120" y="1014480"/>
          <a:ext cx="4800600" cy="1533600"/>
        </p:xfrm>
        <a:graphic>
          <a:graphicData uri="http://schemas.openxmlformats.org/drawingml/2006/table">
            <a:tbl>
              <a:tblPr/>
              <a:tblGrid>
                <a:gridCol w="2468520"/>
                <a:gridCol w="2332080"/>
              </a:tblGrid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CONTO ECONOMIC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COS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0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151.36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112.648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VARIAZIONE ASSOLU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38.714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VARIAZIONE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5,5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ttangolo 1"/>
          <p:cNvSpPr/>
          <p:nvPr/>
        </p:nvSpPr>
        <p:spPr>
          <a:xfrm>
            <a:off x="543600" y="360360"/>
            <a:ext cx="3987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ffffff"/>
                </a:solidFill>
                <a:latin typeface="Calibri"/>
              </a:rPr>
              <a:t>Risultato di eserciz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ttangolo 2"/>
          <p:cNvSpPr/>
          <p:nvPr/>
        </p:nvSpPr>
        <p:spPr>
          <a:xfrm flipH="1">
            <a:off x="762120" y="1371600"/>
            <a:ext cx="7696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A seguito delle risultanze di bilanc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si  evidenzi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 u="sng">
                <a:solidFill>
                  <a:srgbClr val="09446e"/>
                </a:solidFill>
                <a:uFillTx/>
                <a:latin typeface="Calibri"/>
              </a:rPr>
              <a:t>un disavanzo di esercizi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pari ad euro  3.0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 </a:t>
            </a: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dopo le imposte per IRAP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pari ad euro</a:t>
            </a: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 </a:t>
            </a: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67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DEMPIMENTI LEGISL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ttangolo 2"/>
          <p:cNvSpPr/>
          <p:nvPr/>
        </p:nvSpPr>
        <p:spPr>
          <a:xfrm>
            <a:off x="152280" y="1282680"/>
            <a:ext cx="8686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2060"/>
                </a:solidFill>
                <a:latin typeface="Calibri"/>
              </a:rPr>
              <a:t>Rispettate le norme in materia di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2060"/>
                </a:solidFill>
                <a:latin typeface="Calibri"/>
              </a:rPr>
              <a:t>ACCANTONAMENTO TF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Le somme maturate a favore dei dipendenti nel fondo esposto in bilancio sono state versate su un apposito conto assicurativo, per garantire l’immediata disponibilità moneta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2060"/>
                </a:solidFill>
                <a:latin typeface="Calibri"/>
              </a:rPr>
              <a:t>AGGIORNAMENTO DEL PERSONALE INTERN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attraverso specifici Percorsi di Formazione sulla base dei fabbisogni espre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PROSPETTIVE PER IL 202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ttangolo 2"/>
          <p:cNvSpPr/>
          <p:nvPr/>
        </p:nvSpPr>
        <p:spPr>
          <a:xfrm>
            <a:off x="33480" y="923760"/>
            <a:ext cx="86868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SI PREVEDE UN FATTURATO GLOBALE IN LIEVE FLESSIONE RISPETTO ALL’ANNO PRECE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Sarebbe auspicabile sostenere le attività istituzionali con: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- ricorso più massiccio al Fond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- ipotesi di adesione al Terzo Setto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PERCH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L’ente è già organizzato a livello amministrativo cont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è migliorata la capacità organizzativo-gestion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anche grazie all’utilizzo di software di contabi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VOTAZ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ttangolo 2"/>
          <p:cNvSpPr/>
          <p:nvPr/>
        </p:nvSpPr>
        <p:spPr>
          <a:xfrm>
            <a:off x="152280" y="128268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Alla luce delle considerazioni svolte nei punti precedenti e di quanto esposto nella Nota Integr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la Segretaria Na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Vi propone di approvare il progetto di bilancio che Vi viene sottopos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e di coprire il disavanzo di gestione pari ad euro </a:t>
            </a:r>
            <a:r>
              <a:rPr b="0" i="1" lang="it-IT" sz="28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3.000 con il Fondo Associ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itolo 1"/>
          <p:cNvSpPr/>
          <p:nvPr/>
        </p:nvSpPr>
        <p:spPr>
          <a:xfrm>
            <a:off x="0" y="76320"/>
            <a:ext cx="91440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REVENTIVO ESERCIZIO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Tabella 6" descr=""/>
          <p:cNvPicPr/>
          <p:nvPr/>
        </p:nvPicPr>
        <p:blipFill>
          <a:blip r:embed="rId1"/>
          <a:stretch/>
        </p:blipFill>
        <p:spPr>
          <a:xfrm>
            <a:off x="371520" y="414360"/>
            <a:ext cx="810252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ttangolo 40"/>
          <p:cNvSpPr/>
          <p:nvPr/>
        </p:nvSpPr>
        <p:spPr>
          <a:xfrm>
            <a:off x="0" y="5257800"/>
            <a:ext cx="9140760" cy="1600200"/>
          </a:xfrm>
          <a:prstGeom prst="rect">
            <a:avLst/>
          </a:prstGeom>
          <a:solidFill>
            <a:srgbClr val="efe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ttangolo 35"/>
          <p:cNvSpPr/>
          <p:nvPr/>
        </p:nvSpPr>
        <p:spPr>
          <a:xfrm>
            <a:off x="7927920" y="839880"/>
            <a:ext cx="1216080" cy="1295280"/>
          </a:xfrm>
          <a:prstGeom prst="rect">
            <a:avLst/>
          </a:prstGeom>
          <a:solidFill>
            <a:srgbClr val="7b2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ttangolo 41"/>
          <p:cNvSpPr/>
          <p:nvPr/>
        </p:nvSpPr>
        <p:spPr>
          <a:xfrm>
            <a:off x="0" y="2895480"/>
            <a:ext cx="9144000" cy="67968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ttangolo 27"/>
          <p:cNvSpPr/>
          <p:nvPr/>
        </p:nvSpPr>
        <p:spPr>
          <a:xfrm>
            <a:off x="7075440" y="2135160"/>
            <a:ext cx="852480" cy="4428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ttangolo 32"/>
          <p:cNvSpPr/>
          <p:nvPr/>
        </p:nvSpPr>
        <p:spPr>
          <a:xfrm>
            <a:off x="7075440" y="-23760"/>
            <a:ext cx="852480" cy="86364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7927920" cy="67968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8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  <a:ea typeface="Calibri"/>
              </a:rPr>
              <a:t>Grazie per l’atten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ttangolo 1"/>
          <p:cNvSpPr/>
          <p:nvPr/>
        </p:nvSpPr>
        <p:spPr>
          <a:xfrm>
            <a:off x="380880" y="1066680"/>
            <a:ext cx="853452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IL CONTESTO MACRO-ECONO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NEL 2021 CONTINUA LO STATO DI CRISI PER LA PAN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- interi settori economici devasta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recarietà, nuove povertà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sperequazione dei redditi e concentrazione della ricchez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Obiettivo del Governo entro il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er un ritorno graduale alla “normalità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- portare avanti la campagna vacc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untare su crescita del PIL e stabilità (Next Generation EU, PNR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Ma…….il 24 febbraio 2022 la Russia attacca l’Ucra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ttangolo 1"/>
          <p:cNvSpPr/>
          <p:nvPr/>
        </p:nvSpPr>
        <p:spPr>
          <a:xfrm>
            <a:off x="457200" y="1612800"/>
            <a:ext cx="85345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Nel corso del 202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l’Associazione ha operato nell’ambito del sistema educativo dell’istruzione e della form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collaborando principal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con enti pubblici e privati nazion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(FONDER, MIUR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itolo 1"/>
          <p:cNvSpPr/>
          <p:nvPr/>
        </p:nvSpPr>
        <p:spPr>
          <a:xfrm>
            <a:off x="6019920" y="455760"/>
            <a:ext cx="281916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tolo 1"/>
          <p:cNvSpPr/>
          <p:nvPr/>
        </p:nvSpPr>
        <p:spPr>
          <a:xfrm>
            <a:off x="0" y="5302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A GESTIONE ECONOMICO-FINANZIARIA ED IL RISCHIO DI LIQUID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ttangolo 2"/>
          <p:cNvSpPr/>
          <p:nvPr/>
        </p:nvSpPr>
        <p:spPr>
          <a:xfrm>
            <a:off x="235080" y="1066680"/>
            <a:ext cx="8686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LA GESTIONE FINANZ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È stata attu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UN’ATTENTA E PUNTUALE GESTIONE FINANZIARIA</a:t>
            </a: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 ricorrendo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dilazioni di pagamento e richieste di posticipo delle scadenze a fornitori abitua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temporanee compensazioni tra attivit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riscossioni di acconti/saldi di progetti in erogazione e/o conclusi con riconosciuto pari al 100% e riscossione totale del saldo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Anticipazioni Infruttifere da s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ttangolo 1"/>
          <p:cNvSpPr/>
          <p:nvPr/>
        </p:nvSpPr>
        <p:spPr>
          <a:xfrm>
            <a:off x="380880" y="1295280"/>
            <a:ext cx="80773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Il bilancio d’esercizio 2021 del CIOFS SCUOLA F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è stato redatto nel rispetto delle norme nazionali ed europee vigenti in mater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ttangolo 4"/>
          <p:cNvSpPr/>
          <p:nvPr/>
        </p:nvSpPr>
        <p:spPr>
          <a:xfrm>
            <a:off x="1447920" y="2666880"/>
            <a:ext cx="701028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</a:rPr>
              <a:t>Si compone dei seguenti document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9446e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  <a:ea typeface="Arial"/>
              </a:rPr>
              <a:t>Bilancio C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9446e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  <a:ea typeface="Arial"/>
              </a:rPr>
              <a:t>Nota Integra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</a:rPr>
              <a:t>e dalla Relazione del Collegio dei Revisor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9446e"/>
                </a:solidFill>
                <a:latin typeface="Calibri"/>
              </a:rPr>
              <a:t>(Controllo Legale e di Revisione Legale dei Con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ttangolo 1"/>
          <p:cNvSpPr/>
          <p:nvPr/>
        </p:nvSpPr>
        <p:spPr>
          <a:xfrm>
            <a:off x="609480" y="1295280"/>
            <a:ext cx="8077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ttangolo 4"/>
          <p:cNvSpPr/>
          <p:nvPr/>
        </p:nvSpPr>
        <p:spPr>
          <a:xfrm>
            <a:off x="343080" y="2209680"/>
            <a:ext cx="8610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9446e"/>
                </a:solidFill>
                <a:latin typeface="Calibri"/>
              </a:rPr>
              <a:t>COMPOSI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9446e"/>
                </a:solidFill>
                <a:latin typeface="Calibri"/>
              </a:rPr>
              <a:t>DELL’ATTIVO E DEL PASSIVO PATRIMON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itolo 1"/>
          <p:cNvSpPr/>
          <p:nvPr/>
        </p:nvSpPr>
        <p:spPr>
          <a:xfrm>
            <a:off x="4114800" y="455760"/>
            <a:ext cx="472428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NALISI DEI DATI AGGREG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itolo 1"/>
          <p:cNvSpPr/>
          <p:nvPr/>
        </p:nvSpPr>
        <p:spPr>
          <a:xfrm>
            <a:off x="25560" y="466560"/>
            <a:ext cx="8966160" cy="4590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TTIVO PATRIMONIALE – COMPOSIZIONE PERCENT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Grafico 4"/>
          <p:cNvGraphicFramePr/>
          <p:nvPr/>
        </p:nvGraphicFramePr>
        <p:xfrm>
          <a:off x="177840" y="2387520"/>
          <a:ext cx="8636040" cy="383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Grafico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387520"/>
                    <a:ext cx="86360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438280" y="1181160"/>
          <a:ext cx="3810240" cy="1257120"/>
        </p:xfrm>
        <a:graphic>
          <a:graphicData uri="http://schemas.openxmlformats.org/drawingml/2006/table">
            <a:tbl>
              <a:tblPr/>
              <a:tblGrid>
                <a:gridCol w="1947960"/>
                <a:gridCol w="186228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46.68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35.234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VARI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11.449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VARIAZIONE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4,5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3" name="CasellaDiTesto 7"/>
          <p:cNvSpPr/>
          <p:nvPr/>
        </p:nvSpPr>
        <p:spPr>
          <a:xfrm>
            <a:off x="6524640" y="243828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ncremento rispet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all’anno prece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+ 24,5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ttangolo 4"/>
          <p:cNvSpPr/>
          <p:nvPr/>
        </p:nvSpPr>
        <p:spPr>
          <a:xfrm>
            <a:off x="266760" y="457200"/>
            <a:ext cx="861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PASSIVO PATRIMONIALE – COMPOSIZIONE PERCENTUA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Grafico 5"/>
          <p:cNvGraphicFramePr/>
          <p:nvPr/>
        </p:nvGraphicFramePr>
        <p:xfrm>
          <a:off x="635040" y="1473120"/>
          <a:ext cx="7645320" cy="452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6" name="Grafic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1473120"/>
                    <a:ext cx="764532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ttangolo 4"/>
          <p:cNvSpPr/>
          <p:nvPr/>
        </p:nvSpPr>
        <p:spPr>
          <a:xfrm>
            <a:off x="876240" y="2727360"/>
            <a:ext cx="7810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ttangolo 1"/>
          <p:cNvSpPr/>
          <p:nvPr/>
        </p:nvSpPr>
        <p:spPr>
          <a:xfrm>
            <a:off x="372960" y="2249640"/>
            <a:ext cx="84582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2060"/>
                </a:solidFill>
                <a:latin typeface="Calibri"/>
                <a:ea typeface="Calibri"/>
              </a:rPr>
              <a:t>LA DISTRIBUZIONE PERCENTUALE DEI RICAVI E DEI COSTI DI ESERCIZ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itolo 1"/>
          <p:cNvSpPr/>
          <p:nvPr/>
        </p:nvSpPr>
        <p:spPr>
          <a:xfrm>
            <a:off x="1828800" y="685800"/>
            <a:ext cx="504684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NALISI DEI COSTI E DEI RIC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1:13:54Z</dcterms:created>
  <dc:creator>Federica Ruggiero</dc:creator>
  <dc:description/>
  <dc:language>en-US</dc:language>
  <cp:lastModifiedBy>maria paolucci</cp:lastModifiedBy>
  <cp:lastPrinted>2022-03-24T10:31:40Z</cp:lastPrinted>
  <dcterms:modified xsi:type="dcterms:W3CDTF">2022-03-26T14:00:18Z</dcterms:modified>
  <cp:revision>3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