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4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5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8854-5603-4D61-A41C-B1E675743E4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Img"/>
          </p:nvPr>
        </p:nvSpPr>
        <p:spPr>
          <a:xfrm>
            <a:off x="0" y="53928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body"/>
          </p:nvPr>
        </p:nvSpPr>
        <p:spPr>
          <a:xfrm>
            <a:off x="1023480" y="3372120"/>
            <a:ext cx="818748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8034-1206-4414-B241-7175E7E0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D58E-40A7-4B8F-B6C6-5B43EF53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A447F-38F7-4CB1-9287-CF58EC89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3BDAA-865A-4253-83D3-F348A9BF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C0053-6B2D-41A3-8927-800786CF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00706-FF3D-4B51-974D-B1AEC9F0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7F712-1A40-4E59-B730-B9297449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4CE00-6EE9-45ED-97CD-460F1241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D179C-B41F-4C3F-9088-842AF3AE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1010C-B22C-4B8E-A3FB-E71199EE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55003-28BE-46A2-9B2B-EF812FD0C3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289832-D0D2-48E0-8B18-C142400FE6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8A26-11A3-4F8C-A625-9E5D67EA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601DAC-250E-42E8-8D32-E2DA97C8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424E27-A0DE-4E48-86D6-9DBBB041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D05AD7-76B1-4DFD-B83C-A652C9A0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15C07B-E346-4263-8381-F5C067D0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12CD51-2F8B-4DF5-BF0E-44A5C305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5AEC33-8C4F-4967-AB19-383F5027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A12300-7DAA-4751-BBD0-FD2A3C2C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200EA9-1A45-4A00-851D-47D22EF1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619F4A-CD14-4F27-BFE2-46A1BD2C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01AE28-7967-4F37-B888-6FBB7869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3E8D-35A5-4ABD-9D93-42509599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C4129E-D9C4-4A6E-A2E6-4093085A64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C6FEA9-1710-4159-B7E3-2A0C5A4989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5FAAB2-90C7-4B24-B333-9A9ABEBF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2A6F12-699C-4E1A-B05C-F6E745E7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81FDCF-43CD-4AD8-B844-CE73E55C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9A94BF-DE26-4340-B203-AA82AA3E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D96964-E89A-40D0-A65A-E93AF2B1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D8E4AC-1CBD-4182-9C24-3D52E787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5D59FE-AF16-4A25-B655-73046E75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562D54-6FDC-480F-8D72-19B6A72B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7110-069D-4996-9621-CDFC621D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02BFE3-3F24-4ED7-943D-45B1D525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486297-9299-47A8-8D8D-C0F99F87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56B4E1-D955-420E-9711-5BC243E766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E0EA0-66FE-4D8E-8090-192734DFD5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1EE47-5B94-45E0-A841-DA1DF534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507AE-13AA-46F6-A0D8-9BD7E3D3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0CDB0-E130-4E4C-B1E8-8128817C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483E4-C53C-4A5F-8FBA-AB790BDB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7F4E8-7FDE-49B6-A86F-07BB01CD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793F8-DAA0-4F11-8134-3A4A50E6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EDA1-E446-4FD1-9D7E-D27881F0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E18B1-3CA0-4436-88A7-EB323FA9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3DC29-89AD-4CD2-86E2-0F732613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399EC-E5FD-4CB1-8090-B8525F77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F359B-56E5-41BD-A220-9D91A816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7CDAB-61AB-4151-9F2F-19D9A4EB1D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0AFC51-10F4-496E-88EF-29CBB454F3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7BD107-1796-493D-8F96-A225EC8B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9EDEC1-64F8-487D-89AF-85D63F73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1F10C6-2F89-4D44-9564-D4F1720A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CC53EF-682D-4A47-9C77-B2D7C5C2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0D00-7436-4CAF-B5D1-7F6194FF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DBCB66-859B-48C0-8F3A-B87AA95B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23E789-D85C-4C3E-A656-5ED77B89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950C13-D5C2-4EC9-B035-5376FE25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E63657-34C2-4B73-A24A-5272C530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95C23C-02DF-4A7C-91A6-5801B469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2A7FC6-17AC-4821-8759-ACE7F1F6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DF9C09-90FB-4CC3-AAA8-2A82A0CFAF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85B4-953B-4728-B57C-3F661380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43B6-8363-4FAD-A8F8-C6464EA2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D288-1AE1-43F7-BE28-FB5DCCB2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D225-E6B8-4E46-AE51-31836F0B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1014-7385-4B5E-ABCD-D55F0F12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7E02-4544-4CC9-9522-05B9E549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3B79-3F78-4250-BE68-5E75949C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0D41-E5B3-4644-A80D-55F353F6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E8D9-F535-47DB-9C41-8D9B4FE3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B3C4-8BB1-4B93-8CB5-D59291C4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5B6F0-1A0F-4840-AF7B-D3869D35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9FFAB-C9A5-4E08-99A2-D8D9FF45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EA516-8AA8-4C5E-BA91-D7F7126C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41FE7-24AA-4423-BAE5-1A7F353D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4B9CF-DFD2-41DC-93B4-DE74AA3A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1156-F31F-4CBE-9F1F-D7CA21D4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171D0-E52F-4784-AF99-DA42B73E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11BBC-8B44-42DE-97E7-659B5EBD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752D7-2A97-457B-8C7B-B8A31E63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6C529-6F5A-49F9-A924-2E9D8195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CA7AB-C98D-4B01-B7A9-875DA755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33222-04E5-4547-82CA-52675209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7CB48-7232-4812-8105-37D2B238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510E-9146-41AA-904A-1BBAD559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894E-547D-4C91-9FF7-75EDB8FC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7E94-03AF-4D3E-ADC8-D1BE3E8F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59BE-5915-4858-BB78-4F82F51F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FA54AB-7518-4D94-8AD6-CAB5F23373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89D01E-5498-4485-83C2-BE37DA6D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841C31-8DC9-4B4E-BF23-A9FBA5A4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0080C7-A1C1-48F2-991C-E83F44CC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99DA7C-99BA-4E1D-87FE-5C4056E6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1ABDA9-9987-4E83-98D7-8E8C5F13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EF7E15-2D6A-4210-BB4D-AA90C2D7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D533-A2AE-4845-A6D1-E0C3D29F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723C1A-A111-408F-BC55-92AFBFB6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12DB71-1B08-4766-AA69-A1FC2F21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767855-EAB8-490E-A84B-C8FD7F65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31C33C-0D23-494F-A7BF-C6759C72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04C671-3838-4469-ABBA-0A6AD73693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D9E8B0-8BFB-47EF-91E5-D01879ADA0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233D38-1812-4296-B763-10A8631D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A7F6F9-8F7F-44D5-9B2D-AA748E3C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30DFE8-3925-4F5A-9901-370F0101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134035-3A73-4614-BCFB-FD792206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1DC0-02A6-4B7C-84E4-0E495C42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9866DE-BE3D-4AE2-A0A5-F812D045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B1086D-A187-404E-B5E1-F4FD5334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0E6383-8BB6-474F-B01B-F5EC1950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A4AD82-1245-401A-A0FB-EC941610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856F0A-D829-4F16-9A43-BA2A464C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67D2E4-E8DC-4ECD-BE36-50DC7882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71C26A-3658-4A7E-B87A-F203E72ACA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727BE-157E-4993-B5EC-64EAF52F35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4E466-6BE7-4724-BE46-53730913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1DB22-FB51-4485-A495-6634C02B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ssemblea Nazionale CIOFS-FP  Roma, 25-26 Ottobre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E49B-03D7-46AD-B9E9-223810FEEBF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52A8-3601-45E6-B0D7-1B76D6CCE871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0965-B648-44A7-AE2D-1DCEA437D998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CB8D-EA82-4AD1-BECF-D04A0AE2D234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E4AD-62FD-41EA-AC62-457615CA5373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54CA-1BB9-47DE-8C93-48638DBC9989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AE61-E7F2-4182-B0B2-FD33EE5D0676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Gruppo 6" descr=""/>
          <p:cNvPicPr/>
          <p:nvPr/>
        </p:nvPicPr>
        <p:blipFill>
          <a:blip r:embed="rId2"/>
          <a:stretch/>
        </p:blipFill>
        <p:spPr>
          <a:xfrm>
            <a:off x="79200" y="66600"/>
            <a:ext cx="4797720" cy="847800"/>
          </a:xfrm>
          <a:prstGeom prst="rect">
            <a:avLst/>
          </a:prstGeom>
          <a:ln w="0">
            <a:noFill/>
          </a:ln>
        </p:spPr>
      </p:pic>
      <p:sp>
        <p:nvSpPr>
          <p:cNvPr id="124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66b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uppo 4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26" name="Immagine 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  <a:ea typeface="Calibri"/>
              </a:rPr>
              <a:t>Assemblea Nazionale e CDN CIOFS-FP  Roma, 2-4 aprile 20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ruppo 6" descr=""/>
          <p:cNvPicPr/>
          <p:nvPr/>
        </p:nvPicPr>
        <p:blipFill>
          <a:blip r:embed="rId2"/>
          <a:stretch/>
        </p:blipFill>
        <p:spPr>
          <a:xfrm>
            <a:off x="79200" y="73080"/>
            <a:ext cx="4797720" cy="439560"/>
          </a:xfrm>
          <a:prstGeom prst="rect">
            <a:avLst/>
          </a:prstGeom>
          <a:ln w="0">
            <a:noFill/>
          </a:ln>
        </p:spPr>
      </p:pic>
      <p:sp>
        <p:nvSpPr>
          <p:cNvPr id="168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uppo 10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70" name="Immagine 1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Nazionale CIOFS-FP - Roma, 25 marzo 20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Gruppo 6" descr=""/>
          <p:cNvPicPr/>
          <p:nvPr/>
        </p:nvPicPr>
        <p:blipFill>
          <a:blip r:embed="rId2"/>
          <a:stretch/>
        </p:blipFill>
        <p:spPr>
          <a:xfrm>
            <a:off x="42840" y="66600"/>
            <a:ext cx="4834080" cy="847800"/>
          </a:xfrm>
          <a:prstGeom prst="rect">
            <a:avLst/>
          </a:prstGeom>
          <a:ln w="0">
            <a:noFill/>
          </a:ln>
        </p:spPr>
      </p:pic>
      <p:sp>
        <p:nvSpPr>
          <p:cNvPr id="212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tangolo 10"/>
          <p:cNvSpPr/>
          <p:nvPr/>
        </p:nvSpPr>
        <p:spPr>
          <a:xfrm>
            <a:off x="-6480" y="6570720"/>
            <a:ext cx="7412040" cy="49320"/>
          </a:xfrm>
          <a:prstGeom prst="rect">
            <a:avLst/>
          </a:prstGeom>
          <a:solidFill>
            <a:srgbClr val="ffd8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e CDN - Roma, 26/27 marzo 20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magine 12" descr=""/>
          <p:cNvPicPr/>
          <p:nvPr/>
        </p:nvPicPr>
        <p:blipFill>
          <a:blip r:embed="rId3"/>
          <a:stretch/>
        </p:blipFill>
        <p:spPr>
          <a:xfrm>
            <a:off x="7543800" y="6248520"/>
            <a:ext cx="1374840" cy="4269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A107-5654-4711-8F0E-FEB60623C9B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91BD-8862-4D40-B16E-4DA5A045998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C091-2D59-4779-B69B-59510D8B8314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ttangolo 40"/>
          <p:cNvSpPr/>
          <p:nvPr/>
        </p:nvSpPr>
        <p:spPr>
          <a:xfrm>
            <a:off x="0" y="5811840"/>
            <a:ext cx="9140760" cy="104616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tolo 1"/>
          <p:cNvSpPr/>
          <p:nvPr/>
        </p:nvSpPr>
        <p:spPr>
          <a:xfrm>
            <a:off x="228600" y="6194520"/>
            <a:ext cx="2975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ttangolo 37"/>
          <p:cNvSpPr/>
          <p:nvPr/>
        </p:nvSpPr>
        <p:spPr>
          <a:xfrm flipV="1" rot="10800000">
            <a:off x="2743200" y="406800"/>
            <a:ext cx="4332240" cy="1731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Roma, 26 marzo 20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CD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ttangolo 41"/>
          <p:cNvSpPr/>
          <p:nvPr/>
        </p:nvSpPr>
        <p:spPr>
          <a:xfrm>
            <a:off x="0" y="3232080"/>
            <a:ext cx="9144000" cy="141120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19360" y="3648240"/>
            <a:ext cx="4360680" cy="14112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CIOFS SCUOLA FMA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BILANCIO 202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PREVENTIVO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Immagine 1" descr=""/>
          <p:cNvPicPr/>
          <p:nvPr/>
        </p:nvPicPr>
        <p:blipFill>
          <a:blip r:embed="rId1"/>
          <a:stretch/>
        </p:blipFill>
        <p:spPr>
          <a:xfrm>
            <a:off x="3425760" y="5905440"/>
            <a:ext cx="22449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ttangolo 1"/>
          <p:cNvSpPr/>
          <p:nvPr/>
        </p:nvSpPr>
        <p:spPr>
          <a:xfrm>
            <a:off x="510480" y="457200"/>
            <a:ext cx="207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L FATTURA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ttangolo 2"/>
          <p:cNvSpPr/>
          <p:nvPr/>
        </p:nvSpPr>
        <p:spPr>
          <a:xfrm>
            <a:off x="1714680" y="93492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 +40,5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2133720" y="1295280"/>
          <a:ext cx="4572000" cy="1344600"/>
        </p:xfrm>
        <a:graphic>
          <a:graphicData uri="http://schemas.openxmlformats.org/drawingml/2006/table">
            <a:tbl>
              <a:tblPr/>
              <a:tblGrid>
                <a:gridCol w="2350800"/>
                <a:gridCol w="2221200"/>
              </a:tblGrid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CONTO ECONOM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RICA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149.03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88.67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60.35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VARIAZIONI % 2021/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40,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Rettangolo 5"/>
          <p:cNvSpPr/>
          <p:nvPr/>
        </p:nvSpPr>
        <p:spPr>
          <a:xfrm>
            <a:off x="-152280" y="28144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0c0"/>
                </a:solidFill>
                <a:latin typeface="Calibri Light"/>
                <a:ea typeface="Calibri"/>
              </a:rPr>
              <a:t>Distribuzione percentuale dei ricavi per progetti/attiv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Grafico 11"/>
          <p:cNvGraphicFramePr/>
          <p:nvPr/>
        </p:nvGraphicFramePr>
        <p:xfrm>
          <a:off x="196920" y="2763720"/>
          <a:ext cx="8750160" cy="367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5" name="Grafico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2763720"/>
                    <a:ext cx="875016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ttangolo 1"/>
          <p:cNvSpPr/>
          <p:nvPr/>
        </p:nvSpPr>
        <p:spPr>
          <a:xfrm>
            <a:off x="380880" y="2494080"/>
            <a:ext cx="84582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70c0"/>
                </a:solidFill>
                <a:latin typeface="Calibri"/>
              </a:rPr>
              <a:t>LA DISTRIBUZIONE PERCENTUALE DEI C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ttangolo 1"/>
          <p:cNvSpPr/>
          <p:nvPr/>
        </p:nvSpPr>
        <p:spPr>
          <a:xfrm>
            <a:off x="538560" y="457200"/>
            <a:ext cx="110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COS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ttangolo 2"/>
          <p:cNvSpPr/>
          <p:nvPr/>
        </p:nvSpPr>
        <p:spPr>
          <a:xfrm flipH="1">
            <a:off x="7127280" y="1041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l +25,58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Grafico 7"/>
          <p:cNvGraphicFramePr/>
          <p:nvPr/>
        </p:nvGraphicFramePr>
        <p:xfrm>
          <a:off x="177840" y="2692440"/>
          <a:ext cx="8559720" cy="392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1" name="Grafico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692440"/>
                    <a:ext cx="855972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CasellaDiTesto 2"/>
          <p:cNvSpPr/>
          <p:nvPr/>
        </p:nvSpPr>
        <p:spPr>
          <a:xfrm>
            <a:off x="969840" y="26766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  <a:ea typeface="Calibri"/>
              </a:rPr>
              <a:t>DISTRIBUZIONE PERCENTUALE DEI C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905120" y="1014480"/>
          <a:ext cx="4800600" cy="1533600"/>
        </p:xfrm>
        <a:graphic>
          <a:graphicData uri="http://schemas.openxmlformats.org/drawingml/2006/table">
            <a:tbl>
              <a:tblPr/>
              <a:tblGrid>
                <a:gridCol w="2468520"/>
                <a:gridCol w="2332080"/>
              </a:tblGrid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NTO ECONOMIC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S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51.36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12.64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ASSOLU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38.71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5,5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ttangolo 1"/>
          <p:cNvSpPr/>
          <p:nvPr/>
        </p:nvSpPr>
        <p:spPr>
          <a:xfrm>
            <a:off x="543600" y="360360"/>
            <a:ext cx="3987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Calibri"/>
              </a:rPr>
              <a:t>Risultato di eserciz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ttangolo 2"/>
          <p:cNvSpPr/>
          <p:nvPr/>
        </p:nvSpPr>
        <p:spPr>
          <a:xfrm flipH="1">
            <a:off x="762120" y="1371600"/>
            <a:ext cx="7696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A seguito delle risultanze di bilanc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si  evidenzi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 u="sng">
                <a:solidFill>
                  <a:srgbClr val="09446e"/>
                </a:solidFill>
                <a:uFillTx/>
                <a:latin typeface="Calibri"/>
              </a:rPr>
              <a:t>un disavanzo di esercizi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  3.0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dopo le imposte per IRAP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</a:t>
            </a: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67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DEMPIMENTI LEGISL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ttangolo 2"/>
          <p:cNvSpPr/>
          <p:nvPr/>
        </p:nvSpPr>
        <p:spPr>
          <a:xfrm>
            <a:off x="152280" y="1282680"/>
            <a:ext cx="8686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2060"/>
                </a:solidFill>
                <a:latin typeface="Calibri"/>
              </a:rPr>
              <a:t>Rispettate le norme in materia di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CCANTONAMENTO TF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Le somme maturate a favore dei dipendenti nel fondo esposto in bilancio sono state versate su un apposito conto assicurativo, per garantire l’immediata disponibilità monet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GGIORNAMENTO DEL PERSONALE INTERN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attraverso specifici Percorsi di Formazione sulla base dei fabbisogni espre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PROSPETTIVE PER IL 202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ttangolo 2"/>
          <p:cNvSpPr/>
          <p:nvPr/>
        </p:nvSpPr>
        <p:spPr>
          <a:xfrm>
            <a:off x="33480" y="923760"/>
            <a:ext cx="86868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SI PREVEDE UN FATTURATO GLOBALE IN LIEVE FLESSIONE RISPETTO ALL’ANNO PRECE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Sarebbe auspicabile sostenere le attività istituzionali con: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ricorso più massiccio al Fond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ipotesi di adesione al Terzo Setto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PERCH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L’ente è già organizzato a livello amministrativo cont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migliorata la capacità organizzativo-gestio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che grazie all’utilizzo di software di conta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VOTAZ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ttangolo 2"/>
          <p:cNvSpPr/>
          <p:nvPr/>
        </p:nvSpPr>
        <p:spPr>
          <a:xfrm>
            <a:off x="152280" y="128268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Alla luce delle considerazioni svolte nei punti precedenti e di quanto esposto nella Nota Integ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la Segretaria Na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Vi propone di approvare il progetto di bilancio che Vi viene sottopo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e di coprire il disavanzo di gestione pari ad euro </a:t>
            </a:r>
            <a:r>
              <a:rPr b="0" i="1" lang="it-IT" sz="28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3.000 con il Fondo Associ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itolo 1"/>
          <p:cNvSpPr/>
          <p:nvPr/>
        </p:nvSpPr>
        <p:spPr>
          <a:xfrm>
            <a:off x="0" y="76320"/>
            <a:ext cx="91440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REVENTIVO ESERCIZIO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Tabella 6" descr=""/>
          <p:cNvPicPr/>
          <p:nvPr/>
        </p:nvPicPr>
        <p:blipFill>
          <a:blip r:embed="rId1"/>
          <a:stretch/>
        </p:blipFill>
        <p:spPr>
          <a:xfrm>
            <a:off x="371520" y="414360"/>
            <a:ext cx="81025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ttangolo 40"/>
          <p:cNvSpPr/>
          <p:nvPr/>
        </p:nvSpPr>
        <p:spPr>
          <a:xfrm>
            <a:off x="0" y="5257800"/>
            <a:ext cx="9140760" cy="1600200"/>
          </a:xfrm>
          <a:prstGeom prst="rect">
            <a:avLst/>
          </a:prstGeom>
          <a:solidFill>
            <a:srgbClr val="efe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ttangolo 41"/>
          <p:cNvSpPr/>
          <p:nvPr/>
        </p:nvSpPr>
        <p:spPr>
          <a:xfrm>
            <a:off x="0" y="2895480"/>
            <a:ext cx="9144000" cy="67968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7927920" cy="67968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  <a:ea typeface="Calibri"/>
              </a:rPr>
              <a:t>Grazie per l’atten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ttangolo 1"/>
          <p:cNvSpPr/>
          <p:nvPr/>
        </p:nvSpPr>
        <p:spPr>
          <a:xfrm>
            <a:off x="380880" y="1066680"/>
            <a:ext cx="85345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IL CONTESTO MACRO-ECONO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NEL 2021 CONTINUA LO STATO DI CRISI PER LA PAN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interi settori economici devasta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recarietà, nuove povertà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sperequazione dei redditi e concentrazione della ricchez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Obiettivo del Governo entro il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er un ritorno graduale alla “normalità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portare avanti la campagna vacc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untare su crescita del PIL e stabilità (Next Generation EU, PNR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Ma…….il 24 febbraio 2022 la Russia attacca l’Ucra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ttangolo 1"/>
          <p:cNvSpPr/>
          <p:nvPr/>
        </p:nvSpPr>
        <p:spPr>
          <a:xfrm>
            <a:off x="457200" y="1612800"/>
            <a:ext cx="85345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Nel corso del 202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l’Associazione ha operato nell’ambito del sistema educativo dell’istruzione e della form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llaborando princip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n enti pubblici e privati nazion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(FONDER, MIUR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itolo 1"/>
          <p:cNvSpPr/>
          <p:nvPr/>
        </p:nvSpPr>
        <p:spPr>
          <a:xfrm>
            <a:off x="6019920" y="455760"/>
            <a:ext cx="281916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tolo 1"/>
          <p:cNvSpPr/>
          <p:nvPr/>
        </p:nvSpPr>
        <p:spPr>
          <a:xfrm>
            <a:off x="0" y="5302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A GESTIONE ECONOMICO-FINANZIARIA ED IL RISCHIO DI LIQUID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ttangolo 2"/>
          <p:cNvSpPr/>
          <p:nvPr/>
        </p:nvSpPr>
        <p:spPr>
          <a:xfrm>
            <a:off x="235080" y="1066680"/>
            <a:ext cx="8686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LA GESTIONE FINANZ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stata attu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UN’ATTENTA E PUNTUALE GESTIONE FINANZIARIA</a:t>
            </a: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 ricorrend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dilazioni di pagamento e richieste di posticipo delle scadenze a fornitori abitu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temporanee compensazioni tra attivi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riscossioni di acconti/saldi di progetti in erogazione e/o conclusi con riconosciuto pari al 100% e riscossione totale del saldo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ticipazioni Infruttifere da s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ttangolo 1"/>
          <p:cNvSpPr/>
          <p:nvPr/>
        </p:nvSpPr>
        <p:spPr>
          <a:xfrm>
            <a:off x="380880" y="1295280"/>
            <a:ext cx="80773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Il bilancio d’esercizio 2021 del CIOFS SCUOLA F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è stato redatto nel rispetto delle norme nazionali ed europee vigenti in mate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ttangolo 4"/>
          <p:cNvSpPr/>
          <p:nvPr/>
        </p:nvSpPr>
        <p:spPr>
          <a:xfrm>
            <a:off x="1447920" y="2666880"/>
            <a:ext cx="701028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Si compone dei seguenti document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Bilancio C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Nota Integr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e dalla Relazione del Collegio dei Revisor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9446e"/>
                </a:solidFill>
                <a:latin typeface="Calibri"/>
              </a:rPr>
              <a:t>(Controllo Legale e di Revisione Legale dei Con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ttangolo 1"/>
          <p:cNvSpPr/>
          <p:nvPr/>
        </p:nvSpPr>
        <p:spPr>
          <a:xfrm>
            <a:off x="609480" y="1295280"/>
            <a:ext cx="807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ttangolo 4"/>
          <p:cNvSpPr/>
          <p:nvPr/>
        </p:nvSpPr>
        <p:spPr>
          <a:xfrm>
            <a:off x="343080" y="2209680"/>
            <a:ext cx="8610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COMPOSI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DELL’ATTIVO E DEL PASSIVO PATRIMON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itolo 1"/>
          <p:cNvSpPr/>
          <p:nvPr/>
        </p:nvSpPr>
        <p:spPr>
          <a:xfrm>
            <a:off x="4114800" y="455760"/>
            <a:ext cx="472428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DATI AGGREG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itolo 1"/>
          <p:cNvSpPr/>
          <p:nvPr/>
        </p:nvSpPr>
        <p:spPr>
          <a:xfrm>
            <a:off x="25560" y="466560"/>
            <a:ext cx="8966160" cy="4590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TTIVO PATRIMONIALE – COMPOSIZIONE PERCEN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Grafico 4"/>
          <p:cNvGraphicFramePr/>
          <p:nvPr/>
        </p:nvGraphicFramePr>
        <p:xfrm>
          <a:off x="177840" y="2387520"/>
          <a:ext cx="8636040" cy="38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Gra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387520"/>
                    <a:ext cx="86360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438280" y="1181160"/>
          <a:ext cx="3810240" cy="1257120"/>
        </p:xfrm>
        <a:graphic>
          <a:graphicData uri="http://schemas.openxmlformats.org/drawingml/2006/table">
            <a:tbl>
              <a:tblPr/>
              <a:tblGrid>
                <a:gridCol w="1947960"/>
                <a:gridCol w="186228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46.68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35.234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11.449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4,5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3" name="CasellaDiTesto 7"/>
          <p:cNvSpPr/>
          <p:nvPr/>
        </p:nvSpPr>
        <p:spPr>
          <a:xfrm>
            <a:off x="6524640" y="243828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ncremento rispe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all’anno prece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+ 24,5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ttangolo 4"/>
          <p:cNvSpPr/>
          <p:nvPr/>
        </p:nvSpPr>
        <p:spPr>
          <a:xfrm>
            <a:off x="266760" y="457200"/>
            <a:ext cx="861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PASSIVO PATRIMONIALE – COMPOSIZIONE PERCENTUA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Grafico 5"/>
          <p:cNvGraphicFramePr/>
          <p:nvPr/>
        </p:nvGraphicFramePr>
        <p:xfrm>
          <a:off x="635040" y="1473120"/>
          <a:ext cx="7645320" cy="452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6" name="Grafic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1473120"/>
                    <a:ext cx="764532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ttangolo 1"/>
          <p:cNvSpPr/>
          <p:nvPr/>
        </p:nvSpPr>
        <p:spPr>
          <a:xfrm>
            <a:off x="372960" y="2249640"/>
            <a:ext cx="84582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2060"/>
                </a:solidFill>
                <a:latin typeface="Calibri"/>
                <a:ea typeface="Calibri"/>
              </a:rPr>
              <a:t>LA DISTRIBUZIONE PERCENTUALE DEI RICAVI E DEI COSTI DI ESERCIZ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itolo 1"/>
          <p:cNvSpPr/>
          <p:nvPr/>
        </p:nvSpPr>
        <p:spPr>
          <a:xfrm>
            <a:off x="1828800" y="685800"/>
            <a:ext cx="504684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COSTI E DEI RIC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1:13:54Z</dcterms:created>
  <dc:creator>Federica Ruggiero</dc:creator>
  <dc:description/>
  <dc:language>en-US</dc:language>
  <cp:lastModifiedBy>maria paolucci</cp:lastModifiedBy>
  <cp:lastPrinted>2022-03-24T10:31:40Z</cp:lastPrinted>
  <dcterms:modified xsi:type="dcterms:W3CDTF">2022-03-26T14:00:18Z</dcterms:modified>
  <cp:revision>3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