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4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5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6FA5-43A0-45E9-900C-6BB09E02538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Img"/>
          </p:nvPr>
        </p:nvSpPr>
        <p:spPr>
          <a:xfrm>
            <a:off x="0" y="53928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body"/>
          </p:nvPr>
        </p:nvSpPr>
        <p:spPr>
          <a:xfrm>
            <a:off x="1023480" y="3372120"/>
            <a:ext cx="8187480" cy="3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egnaposto piè di pagina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egnaposto piè di pagina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7445-539B-41BF-A631-F7E21B63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F1F6-DB04-4A7D-9704-4D7C959F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4DCB7-BC0F-43E1-AC57-2EF8E15E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33F4A-B685-4061-A92A-3BED39BC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5011B-8479-4B96-96B0-59B7424C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AB542-C7E7-4AC4-814D-47163B22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38956-A536-4E17-A0E0-49F74516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2AC9E-D517-4AC8-9616-E747A68D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86286-9B4C-4725-8FAA-C20667F7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646BD-C635-4872-B163-74455025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C9924-3B75-4C5A-9184-7CA45E47A8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19856C-6C76-49BC-9ABD-7FDDB63FE9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A125-30C3-418E-95FA-276B8C3A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9F92AA-34BE-4DC3-A9A6-15FD9299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B54F3E-BB32-4904-9547-9C4E0FF8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841DB6-FC79-40D2-9960-7F4CA318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AFDD2C-F804-45A8-916C-ECBB7374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DFCEEA-58AB-403B-9B5D-AB9AAEB7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703CBA-EC42-43D3-A81C-30AE11A7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7A1DE5-83BC-478F-97B5-ADFAA6FE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0E816F-9411-4726-AC5F-B1BD7168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CA245C-1711-416A-907C-D586B015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AA4499-ACB9-4425-A0D4-BF8F5526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3B1C-646E-4723-9C0F-ED9B588B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982864-FC90-47C8-9FD9-5A5BE6D203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58E194-7DCA-4F92-AF32-0FBE854BBC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E42067-F2EA-4984-9FBD-CB5CB14C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552359-0796-4878-AC9B-633F84F1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737B03-C8B7-4700-A146-73F1D9FE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CA432A-8C4E-428B-93FE-B9EF92AC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38607A-8E60-4AD5-AFFE-9063669B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4CB5E1-510A-4AD3-9AE7-07B66BD4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9199E6-65FF-451C-8324-DAA476E1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9E861C-D8A0-4B28-93B8-DB078244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A3B2-C272-450B-804A-773748DF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7A8848-18D6-44C9-9FA2-E04A9572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2A0413-EB8E-423C-A092-36728E55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31D1A8-9750-494B-8B21-797C44F37C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8801B-1397-4390-8174-594A808A3A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F8778-56D8-4507-A08C-EAFECC29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AD32E-63F1-41BD-BBCC-0C31868A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EE6FE-06EC-4B61-BEE7-FAC59799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B4FD1-9CAF-4935-9624-A7D5CC70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418E3-36F7-4586-A7CC-9DEAB6BF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AD754-06C4-41D8-A32E-FA25073F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1785-FBB5-45FF-8DDB-6BD7C270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718B2-2F1B-44AF-BE0F-90FACAF3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E0A28-6427-465D-B95C-5BCCFC76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D3887-43ED-44B8-97D5-90A4A03A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7DF65-1A33-490F-9FEA-179FAF73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8277D-2FF4-493D-B0D9-1D36CAD1F7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BABE03-B0A7-492C-B5F5-D8B1B9D0A0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694448-D21E-468F-B478-4D450405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3CF8C4-BE07-4439-8FCC-2243E002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689CBE-4E47-4065-9231-3B953F01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4FF00A-8AB4-4534-8576-01FCF13A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7D37-9033-4009-8BB0-B074FFED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EB6249-2E54-438C-881D-285A0FA2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5543DB-1AD4-4564-8804-79F90602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4455E5-7795-42AA-BC51-6E21C9F4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13947C-A386-429A-A33D-9100985A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4CABE7-F40D-4038-9F71-398580DB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CE4513-BC6A-4D52-9F5B-3CF3361D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154259-46BB-42AC-B1AA-5704C0268F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F4A4-C2DF-4131-B8B2-FF9F92CB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8508-5FFE-4595-8ABC-115999E9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A56C-7E82-476B-9E64-4E25EA17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6615-8D39-43B0-BC58-4EC8F295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215C-EA69-412C-AD9A-2525695F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E9CF-0EF6-41EA-8D96-171F923A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C132-77B0-4080-B189-BEAF66D8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C008-50B8-4EB5-8E6C-92882560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695D-6045-4AB4-A0FC-3FCF9FE0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DEC9-1B9A-438E-BE20-7D170896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D7DB8-E873-430A-8CBF-A675AFE6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8D792-272E-449A-8C65-0E3304D4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54F72-C7DE-4D1D-A868-2AD11006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A38A6-F0A8-4A56-8628-037AA87E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AD4CD-82E5-468F-9517-947622C6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E98A-1B90-451D-9F17-F539E400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BB450-701F-424D-A2C3-C38BEEC2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9F96E-2AF3-4CD9-9D0C-E14D2C5E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8B736-B220-4F08-A451-24B8EF67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981F4-1FD7-45F6-9AE6-20EB2D36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19E34-4397-472F-9A50-28DB6EF7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6A547-DB48-4FD2-B9EE-5D91789D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97528-BEFD-4BF7-8961-D65DF71B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1B47-BE9D-444E-8205-8C14CE8F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9DFB-175D-4271-908E-69916885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3BF-36CD-487C-BC4F-79DA7815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0D76-1E76-4D06-B051-80462E4A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A0DAE4-ACE2-430C-ADF3-0E7D0C3076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08B40D-2F75-47AE-A10B-ECA85E00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FF1777-4A8D-47E4-AE14-F7433FB4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67E3EA-4152-40A9-BF80-42CB363F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C61EF8-25A0-4C6E-BBA1-594D30F4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58E60C-6230-44B6-92AB-CAC9BB7A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2C8B0F-D8B5-482C-AC4F-A21B6BF7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49EE-FE42-474B-9D38-38103838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A649A8-F467-4642-85E1-78E82876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CBBCD5-71F4-4388-B6AE-3287B343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E33BFF-2111-4862-B09E-73C609A5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220CEC-1F7C-40F5-8322-411E1767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E587F5-5B17-4536-8A68-966AE33A7B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3D2726-8908-45D9-9F57-7309F5C1D6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2F394E-515F-45CA-AA05-4CAEDA06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FB2AD4-017E-497D-950B-268A282D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F2BE70-2527-41E2-8649-C49F0405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2AA4B1-E0EE-45B8-AA5F-1BCAAB4C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79D6-0364-499D-92DD-F30289F8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6F261A-2EE4-487C-B683-7C4372E1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552866-B326-428E-B523-41221D8E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E3B12A-3266-4D7E-B9E9-7092224F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5FFA49-BD42-48AD-87C3-9A79850A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4286FE-9E5F-46F3-AE5E-51715D03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492117-D3A4-4EC5-B2EE-4926A32F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E0C71B-9859-48F1-A80F-23A187100A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974A0-E97B-4A73-B8E2-642874B9E0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1F6BD-DBBA-4EEC-A482-0DCD430A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BE48E-B3C3-40C8-A16A-1E64B8BB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ssemblea Nazionale CIOFS-FP  Roma, 25-26 Ottobre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5D22-AD2E-44A2-935A-18CF27A54B1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2555-B94E-44F0-8361-5BFAB7E0B193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59D5-9E03-429F-8E67-C554E631292F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62F2-8A40-4CA9-AE15-8D100A31E95A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B245-FA54-4B82-A740-265A98C7144B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C11F-4E92-4902-8EFD-0652703EB318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C87C-E21B-496E-9509-1DFE57D581F0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Gruppo 6" descr=""/>
          <p:cNvPicPr/>
          <p:nvPr/>
        </p:nvPicPr>
        <p:blipFill>
          <a:blip r:embed="rId2"/>
          <a:stretch/>
        </p:blipFill>
        <p:spPr>
          <a:xfrm>
            <a:off x="79200" y="66600"/>
            <a:ext cx="4797720" cy="847800"/>
          </a:xfrm>
          <a:prstGeom prst="rect">
            <a:avLst/>
          </a:prstGeom>
          <a:ln w="0">
            <a:noFill/>
          </a:ln>
        </p:spPr>
      </p:pic>
      <p:sp>
        <p:nvSpPr>
          <p:cNvPr id="124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66b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uppo 4"/>
          <p:cNvGrpSpPr/>
          <p:nvPr/>
        </p:nvGrpSpPr>
        <p:grpSpPr>
          <a:xfrm>
            <a:off x="-6480" y="6391440"/>
            <a:ext cx="9041040" cy="237960"/>
            <a:chOff x="-6480" y="6391440"/>
            <a:chExt cx="9041040" cy="237960"/>
          </a:xfrm>
        </p:grpSpPr>
        <p:pic>
          <p:nvPicPr>
            <p:cNvPr id="126" name="Immagine 1" descr=""/>
            <p:cNvPicPr/>
            <p:nvPr/>
          </p:nvPicPr>
          <p:blipFill>
            <a:blip r:embed="rId3"/>
            <a:stretch/>
          </p:blipFill>
          <p:spPr>
            <a:xfrm>
              <a:off x="7543800" y="6391440"/>
              <a:ext cx="1490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ttangolo 12"/>
            <p:cNvSpPr/>
            <p:nvPr/>
          </p:nvSpPr>
          <p:spPr>
            <a:xfrm>
              <a:off x="-6480" y="6570720"/>
              <a:ext cx="7412400" cy="48960"/>
            </a:xfrm>
            <a:prstGeom prst="rect">
              <a:avLst/>
            </a:prstGeom>
            <a:solidFill>
              <a:srgbClr val="ffd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  <a:ea typeface="Calibri"/>
              </a:rPr>
              <a:t>Assemblea Nazionale e CDN CIOFS-FP  Roma, 2-4 aprile 20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Gruppo 6" descr=""/>
          <p:cNvPicPr/>
          <p:nvPr/>
        </p:nvPicPr>
        <p:blipFill>
          <a:blip r:embed="rId2"/>
          <a:stretch/>
        </p:blipFill>
        <p:spPr>
          <a:xfrm>
            <a:off x="79200" y="73080"/>
            <a:ext cx="4797720" cy="439560"/>
          </a:xfrm>
          <a:prstGeom prst="rect">
            <a:avLst/>
          </a:prstGeom>
          <a:ln w="0">
            <a:noFill/>
          </a:ln>
        </p:spPr>
      </p:pic>
      <p:sp>
        <p:nvSpPr>
          <p:cNvPr id="168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uppo 10"/>
          <p:cNvGrpSpPr/>
          <p:nvPr/>
        </p:nvGrpSpPr>
        <p:grpSpPr>
          <a:xfrm>
            <a:off x="-6480" y="6391440"/>
            <a:ext cx="9041040" cy="237960"/>
            <a:chOff x="-6480" y="6391440"/>
            <a:chExt cx="9041040" cy="237960"/>
          </a:xfrm>
        </p:grpSpPr>
        <p:pic>
          <p:nvPicPr>
            <p:cNvPr id="170" name="Immagine 11" descr=""/>
            <p:cNvPicPr/>
            <p:nvPr/>
          </p:nvPicPr>
          <p:blipFill>
            <a:blip r:embed="rId3"/>
            <a:stretch/>
          </p:blipFill>
          <p:spPr>
            <a:xfrm>
              <a:off x="7543800" y="6391440"/>
              <a:ext cx="1490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Rettangolo 12"/>
            <p:cNvSpPr/>
            <p:nvPr/>
          </p:nvSpPr>
          <p:spPr>
            <a:xfrm>
              <a:off x="-6480" y="6570720"/>
              <a:ext cx="7412400" cy="48960"/>
            </a:xfrm>
            <a:prstGeom prst="rect">
              <a:avLst/>
            </a:prstGeom>
            <a:solidFill>
              <a:srgbClr val="ffd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9446e"/>
                </a:solidFill>
                <a:latin typeface="Calibri"/>
                <a:ea typeface="Calibri"/>
              </a:rPr>
              <a:t>Assemblea Nazionale CIOFS-FP - Roma, 25 marzo 20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Gruppo 6" descr=""/>
          <p:cNvPicPr/>
          <p:nvPr/>
        </p:nvPicPr>
        <p:blipFill>
          <a:blip r:embed="rId2"/>
          <a:stretch/>
        </p:blipFill>
        <p:spPr>
          <a:xfrm>
            <a:off x="42840" y="66600"/>
            <a:ext cx="4834080" cy="847800"/>
          </a:xfrm>
          <a:prstGeom prst="rect">
            <a:avLst/>
          </a:prstGeom>
          <a:ln w="0">
            <a:noFill/>
          </a:ln>
        </p:spPr>
      </p:pic>
      <p:sp>
        <p:nvSpPr>
          <p:cNvPr id="212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ttangolo 10"/>
          <p:cNvSpPr/>
          <p:nvPr/>
        </p:nvSpPr>
        <p:spPr>
          <a:xfrm>
            <a:off x="-6480" y="6570720"/>
            <a:ext cx="7412040" cy="49320"/>
          </a:xfrm>
          <a:prstGeom prst="rect">
            <a:avLst/>
          </a:prstGeom>
          <a:solidFill>
            <a:srgbClr val="ffd8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9446e"/>
                </a:solidFill>
                <a:latin typeface="Calibri"/>
                <a:ea typeface="Calibri"/>
              </a:rPr>
              <a:t>Assemblea e CDN - Roma, 26/27 marzo 20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magine 12" descr=""/>
          <p:cNvPicPr/>
          <p:nvPr/>
        </p:nvPicPr>
        <p:blipFill>
          <a:blip r:embed="rId3"/>
          <a:stretch/>
        </p:blipFill>
        <p:spPr>
          <a:xfrm>
            <a:off x="7543800" y="6248520"/>
            <a:ext cx="1374840" cy="4269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0464-7D4D-49E0-ABC8-F70FB272E78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BE48-D2D3-408B-86B1-6201BE8AC36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71D3-4FDD-4742-A039-A162015C0029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ttangolo 40"/>
          <p:cNvSpPr/>
          <p:nvPr/>
        </p:nvSpPr>
        <p:spPr>
          <a:xfrm>
            <a:off x="0" y="5811840"/>
            <a:ext cx="9140760" cy="104616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itolo 1"/>
          <p:cNvSpPr/>
          <p:nvPr/>
        </p:nvSpPr>
        <p:spPr>
          <a:xfrm>
            <a:off x="228600" y="6194520"/>
            <a:ext cx="2975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ttangolo 35"/>
          <p:cNvSpPr/>
          <p:nvPr/>
        </p:nvSpPr>
        <p:spPr>
          <a:xfrm>
            <a:off x="7927920" y="839880"/>
            <a:ext cx="1216080" cy="1295280"/>
          </a:xfrm>
          <a:prstGeom prst="rect">
            <a:avLst/>
          </a:prstGeom>
          <a:solidFill>
            <a:srgbClr val="7b2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ttangolo 37"/>
          <p:cNvSpPr/>
          <p:nvPr/>
        </p:nvSpPr>
        <p:spPr>
          <a:xfrm flipV="1" rot="10800000">
            <a:off x="2743200" y="406800"/>
            <a:ext cx="4332240" cy="1731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Roma, 26 marzo 20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CD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ttangolo 41"/>
          <p:cNvSpPr/>
          <p:nvPr/>
        </p:nvSpPr>
        <p:spPr>
          <a:xfrm>
            <a:off x="0" y="3232080"/>
            <a:ext cx="9144000" cy="141120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ttangolo 27"/>
          <p:cNvSpPr/>
          <p:nvPr/>
        </p:nvSpPr>
        <p:spPr>
          <a:xfrm>
            <a:off x="7075440" y="2135160"/>
            <a:ext cx="852480" cy="4428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ttangolo 32"/>
          <p:cNvSpPr/>
          <p:nvPr/>
        </p:nvSpPr>
        <p:spPr>
          <a:xfrm>
            <a:off x="7075440" y="-23760"/>
            <a:ext cx="852480" cy="86364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19360" y="3648240"/>
            <a:ext cx="4360680" cy="14112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CIOFS SCUOLA FMA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- BILANCIO 202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- PREVENTIVO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Immagine 1" descr=""/>
          <p:cNvPicPr/>
          <p:nvPr/>
        </p:nvPicPr>
        <p:blipFill>
          <a:blip r:embed="rId1"/>
          <a:stretch/>
        </p:blipFill>
        <p:spPr>
          <a:xfrm>
            <a:off x="3425760" y="5905440"/>
            <a:ext cx="22449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ttangolo 1"/>
          <p:cNvSpPr/>
          <p:nvPr/>
        </p:nvSpPr>
        <p:spPr>
          <a:xfrm>
            <a:off x="510480" y="457200"/>
            <a:ext cx="207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L FATTURA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ttangolo 2"/>
          <p:cNvSpPr/>
          <p:nvPr/>
        </p:nvSpPr>
        <p:spPr>
          <a:xfrm>
            <a:off x="1714680" y="93492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</a:rPr>
              <a:t>Incremento rispetto all’esercizio precedente pari a +40,5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2133720" y="1295280"/>
          <a:ext cx="4572000" cy="1344600"/>
        </p:xfrm>
        <a:graphic>
          <a:graphicData uri="http://schemas.openxmlformats.org/drawingml/2006/table">
            <a:tbl>
              <a:tblPr/>
              <a:tblGrid>
                <a:gridCol w="2350800"/>
                <a:gridCol w="2221200"/>
              </a:tblGrid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CONTO ECONOM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RICA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149.03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88.674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60.35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VARIAZIONI % 2021/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40,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Rettangolo 5"/>
          <p:cNvSpPr/>
          <p:nvPr/>
        </p:nvSpPr>
        <p:spPr>
          <a:xfrm>
            <a:off x="-152280" y="28144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0c0"/>
                </a:solidFill>
                <a:latin typeface="Calibri Light"/>
                <a:ea typeface="Calibri"/>
              </a:rPr>
              <a:t>Distribuzione percentuale dei ricavi per progetti/attiv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Grafico 11"/>
          <p:cNvGraphicFramePr/>
          <p:nvPr/>
        </p:nvGraphicFramePr>
        <p:xfrm>
          <a:off x="196920" y="2763720"/>
          <a:ext cx="8750160" cy="367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5" name="Grafico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2763720"/>
                    <a:ext cx="875016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ttangolo 4"/>
          <p:cNvSpPr/>
          <p:nvPr/>
        </p:nvSpPr>
        <p:spPr>
          <a:xfrm>
            <a:off x="876240" y="2727360"/>
            <a:ext cx="7810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ttangolo 1"/>
          <p:cNvSpPr/>
          <p:nvPr/>
        </p:nvSpPr>
        <p:spPr>
          <a:xfrm>
            <a:off x="380880" y="2494080"/>
            <a:ext cx="84582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70c0"/>
                </a:solidFill>
                <a:latin typeface="Calibri"/>
              </a:rPr>
              <a:t>LA DISTRIBUZIONE PERCENTUALE DEI C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ttangolo 1"/>
          <p:cNvSpPr/>
          <p:nvPr/>
        </p:nvSpPr>
        <p:spPr>
          <a:xfrm>
            <a:off x="538560" y="457200"/>
            <a:ext cx="110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COST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ttangolo 2"/>
          <p:cNvSpPr/>
          <p:nvPr/>
        </p:nvSpPr>
        <p:spPr>
          <a:xfrm flipH="1">
            <a:off x="7127280" y="1041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</a:rPr>
              <a:t>Incremento rispetto all’esercizio precedente pari al +25,58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Grafico 7"/>
          <p:cNvGraphicFramePr/>
          <p:nvPr/>
        </p:nvGraphicFramePr>
        <p:xfrm>
          <a:off x="177840" y="2692440"/>
          <a:ext cx="8559720" cy="392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1" name="Grafico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692440"/>
                    <a:ext cx="855972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CasellaDiTesto 2"/>
          <p:cNvSpPr/>
          <p:nvPr/>
        </p:nvSpPr>
        <p:spPr>
          <a:xfrm>
            <a:off x="969840" y="26766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  <a:ea typeface="Calibri"/>
              </a:rPr>
              <a:t>DISTRIBUZIONE PERCENTUALE DEI C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905120" y="1014480"/>
          <a:ext cx="4800600" cy="1533600"/>
        </p:xfrm>
        <a:graphic>
          <a:graphicData uri="http://schemas.openxmlformats.org/drawingml/2006/table">
            <a:tbl>
              <a:tblPr/>
              <a:tblGrid>
                <a:gridCol w="2468520"/>
                <a:gridCol w="2332080"/>
              </a:tblGrid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CONTO ECONOMIC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COS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151.36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112.64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VARIAZIONE ASSOLU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38.714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VARIAZIONE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5,5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ttangolo 1"/>
          <p:cNvSpPr/>
          <p:nvPr/>
        </p:nvSpPr>
        <p:spPr>
          <a:xfrm>
            <a:off x="543600" y="360360"/>
            <a:ext cx="3987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ffffff"/>
                </a:solidFill>
                <a:latin typeface="Calibri"/>
              </a:rPr>
              <a:t>Risultato di eserciz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ttangolo 2"/>
          <p:cNvSpPr/>
          <p:nvPr/>
        </p:nvSpPr>
        <p:spPr>
          <a:xfrm flipH="1">
            <a:off x="762120" y="1371600"/>
            <a:ext cx="7696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A seguito delle risultanze di bilanc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si  evidenzi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 u="sng">
                <a:solidFill>
                  <a:srgbClr val="09446e"/>
                </a:solidFill>
                <a:uFillTx/>
                <a:latin typeface="Calibri"/>
              </a:rPr>
              <a:t>un disavanzo di esercizi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pari ad euro  3.0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 </a:t>
            </a: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dopo le imposte per IRAP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pari ad euro</a:t>
            </a: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 </a:t>
            </a: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67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DEMPIMENTI LEGISL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ttangolo 2"/>
          <p:cNvSpPr/>
          <p:nvPr/>
        </p:nvSpPr>
        <p:spPr>
          <a:xfrm>
            <a:off x="152280" y="1282680"/>
            <a:ext cx="8686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2060"/>
                </a:solidFill>
                <a:latin typeface="Calibri"/>
              </a:rPr>
              <a:t>Rispettate le norme in materia di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2060"/>
                </a:solidFill>
                <a:latin typeface="Calibri"/>
              </a:rPr>
              <a:t>ACCANTONAMENTO TF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Le somme maturate a favore dei dipendenti nel fondo esposto in bilancio sono state versate su un apposito conto assicurativo, per garantire l’immediata disponibilità moneta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2060"/>
                </a:solidFill>
                <a:latin typeface="Calibri"/>
              </a:rPr>
              <a:t>AGGIORNAMENTO DEL PERSONALE INTERN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attraverso specifici Percorsi di Formazione sulla base dei fabbisogni espre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PROSPETTIVE PER IL 202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ttangolo 2"/>
          <p:cNvSpPr/>
          <p:nvPr/>
        </p:nvSpPr>
        <p:spPr>
          <a:xfrm>
            <a:off x="33480" y="923760"/>
            <a:ext cx="86868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SI PREVEDE UN FATTURATO GLOBALE IN LIEVE FLESSIONE RISPETTO ALL’ANNO PRECE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Sarebbe auspicabile sostenere le attività istituzionali con: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- ricorso più massiccio al Fond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- ipotesi di adesione al Terzo Setto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PERCH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L’ente è già organizzato a livello amministrativo cont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è migliorata la capacità organizzativo-gestion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anche grazie all’utilizzo di software di contabi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VOTAZ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ttangolo 2"/>
          <p:cNvSpPr/>
          <p:nvPr/>
        </p:nvSpPr>
        <p:spPr>
          <a:xfrm>
            <a:off x="152280" y="128268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Alla luce delle considerazioni svolte nei punti precedenti e di quanto esposto nella Nota Integr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la Segretaria Na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Vi propone di approvare il progetto di bilancio che Vi viene sottopos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e di coprire il disavanzo di gestione pari ad euro </a:t>
            </a:r>
            <a:r>
              <a:rPr b="0" i="1" lang="it-IT" sz="28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3.000 con il Fondo Associ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itolo 1"/>
          <p:cNvSpPr/>
          <p:nvPr/>
        </p:nvSpPr>
        <p:spPr>
          <a:xfrm>
            <a:off x="0" y="76320"/>
            <a:ext cx="91440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REVENTIVO ESERCIZIO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Tabella 6" descr=""/>
          <p:cNvPicPr/>
          <p:nvPr/>
        </p:nvPicPr>
        <p:blipFill>
          <a:blip r:embed="rId1"/>
          <a:stretch/>
        </p:blipFill>
        <p:spPr>
          <a:xfrm>
            <a:off x="371520" y="414360"/>
            <a:ext cx="81025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ttangolo 40"/>
          <p:cNvSpPr/>
          <p:nvPr/>
        </p:nvSpPr>
        <p:spPr>
          <a:xfrm>
            <a:off x="0" y="5257800"/>
            <a:ext cx="9140760" cy="1600200"/>
          </a:xfrm>
          <a:prstGeom prst="rect">
            <a:avLst/>
          </a:prstGeom>
          <a:solidFill>
            <a:srgbClr val="efe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ttangolo 35"/>
          <p:cNvSpPr/>
          <p:nvPr/>
        </p:nvSpPr>
        <p:spPr>
          <a:xfrm>
            <a:off x="7927920" y="839880"/>
            <a:ext cx="1216080" cy="1295280"/>
          </a:xfrm>
          <a:prstGeom prst="rect">
            <a:avLst/>
          </a:prstGeom>
          <a:solidFill>
            <a:srgbClr val="7b2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ttangolo 41"/>
          <p:cNvSpPr/>
          <p:nvPr/>
        </p:nvSpPr>
        <p:spPr>
          <a:xfrm>
            <a:off x="0" y="2895480"/>
            <a:ext cx="9144000" cy="67968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ttangolo 27"/>
          <p:cNvSpPr/>
          <p:nvPr/>
        </p:nvSpPr>
        <p:spPr>
          <a:xfrm>
            <a:off x="7075440" y="2135160"/>
            <a:ext cx="852480" cy="4428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ttangolo 32"/>
          <p:cNvSpPr/>
          <p:nvPr/>
        </p:nvSpPr>
        <p:spPr>
          <a:xfrm>
            <a:off x="7075440" y="-23760"/>
            <a:ext cx="852480" cy="86364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7927920" cy="67968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8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  <a:ea typeface="Calibri"/>
              </a:rPr>
              <a:t>Grazie per l’atten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ttangolo 1"/>
          <p:cNvSpPr/>
          <p:nvPr/>
        </p:nvSpPr>
        <p:spPr>
          <a:xfrm>
            <a:off x="380880" y="1066680"/>
            <a:ext cx="85345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IL CONTESTO MACRO-ECONO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NEL 2021 CONTINUA LO STATO DI CRISI PER LA PAN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- interi settori economici devasta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recarietà, nuove povertà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sperequazione dei redditi e concentrazione della ricchez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Obiettivo del Governo entro il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er un ritorno graduale alla “normalità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- portare avanti la campagna vacc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untare su crescita del PIL e stabilità (Next Generation EU, PNR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Ma…….il 24 febbraio 2022 la Russia attacca l’Ucra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ttangolo 1"/>
          <p:cNvSpPr/>
          <p:nvPr/>
        </p:nvSpPr>
        <p:spPr>
          <a:xfrm>
            <a:off x="457200" y="1612800"/>
            <a:ext cx="85345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Nel corso del 202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l’Associazione ha operato nell’ambito del sistema educativo dell’istruzione e della form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collaborando princip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con enti pubblici e privati nazion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(FONDER, MIUR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itolo 1"/>
          <p:cNvSpPr/>
          <p:nvPr/>
        </p:nvSpPr>
        <p:spPr>
          <a:xfrm>
            <a:off x="6019920" y="455760"/>
            <a:ext cx="281916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tolo 1"/>
          <p:cNvSpPr/>
          <p:nvPr/>
        </p:nvSpPr>
        <p:spPr>
          <a:xfrm>
            <a:off x="0" y="5302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A GESTIONE ECONOMICO-FINANZIARIA ED IL RISCHIO DI LIQUID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ttangolo 2"/>
          <p:cNvSpPr/>
          <p:nvPr/>
        </p:nvSpPr>
        <p:spPr>
          <a:xfrm>
            <a:off x="235080" y="1066680"/>
            <a:ext cx="8686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LA GESTIONE FINANZ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È stata attu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UN’ATTENTA E PUNTUALE GESTIONE FINANZIARIA</a:t>
            </a: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 ricorrendo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dilazioni di pagamento e richieste di posticipo delle scadenze a fornitori abitua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temporanee compensazioni tra attivit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riscossioni di acconti/saldi di progetti in erogazione e/o conclusi con riconosciuto pari al 100% e riscossione totale del saldo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Anticipazioni Infruttifere da s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ttangolo 1"/>
          <p:cNvSpPr/>
          <p:nvPr/>
        </p:nvSpPr>
        <p:spPr>
          <a:xfrm>
            <a:off x="380880" y="1295280"/>
            <a:ext cx="80773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Il bilancio d’esercizio 2021 del CIOFS SCUOLA F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è stato redatto nel rispetto delle norme nazionali ed europee vigenti in mater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ttangolo 4"/>
          <p:cNvSpPr/>
          <p:nvPr/>
        </p:nvSpPr>
        <p:spPr>
          <a:xfrm>
            <a:off x="1447920" y="2666880"/>
            <a:ext cx="701028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</a:rPr>
              <a:t>Si compone dei seguenti document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9446e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  <a:ea typeface="Arial"/>
              </a:rPr>
              <a:t>Bilancio C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9446e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  <a:ea typeface="Arial"/>
              </a:rPr>
              <a:t>Nota Integra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</a:rPr>
              <a:t>e dalla Relazione del Collegio dei Revisor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9446e"/>
                </a:solidFill>
                <a:latin typeface="Calibri"/>
              </a:rPr>
              <a:t>(Controllo Legale e di Revisione Legale dei Con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ttangolo 1"/>
          <p:cNvSpPr/>
          <p:nvPr/>
        </p:nvSpPr>
        <p:spPr>
          <a:xfrm>
            <a:off x="609480" y="1295280"/>
            <a:ext cx="8077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ttangolo 4"/>
          <p:cNvSpPr/>
          <p:nvPr/>
        </p:nvSpPr>
        <p:spPr>
          <a:xfrm>
            <a:off x="343080" y="2209680"/>
            <a:ext cx="8610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9446e"/>
                </a:solidFill>
                <a:latin typeface="Calibri"/>
              </a:rPr>
              <a:t>COMPOSI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9446e"/>
                </a:solidFill>
                <a:latin typeface="Calibri"/>
              </a:rPr>
              <a:t>DELL’ATTIVO E DEL PASSIVO PATRIMON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itolo 1"/>
          <p:cNvSpPr/>
          <p:nvPr/>
        </p:nvSpPr>
        <p:spPr>
          <a:xfrm>
            <a:off x="4114800" y="455760"/>
            <a:ext cx="472428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ALISI DEI DATI AGGREG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itolo 1"/>
          <p:cNvSpPr/>
          <p:nvPr/>
        </p:nvSpPr>
        <p:spPr>
          <a:xfrm>
            <a:off x="25560" y="466560"/>
            <a:ext cx="8966160" cy="4590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TTIVO PATRIMONIALE – COMPOSIZIONE PERCEN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Grafico 4"/>
          <p:cNvGraphicFramePr/>
          <p:nvPr/>
        </p:nvGraphicFramePr>
        <p:xfrm>
          <a:off x="177840" y="2387520"/>
          <a:ext cx="8636040" cy="38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Grafic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387520"/>
                    <a:ext cx="86360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438280" y="1181160"/>
          <a:ext cx="3810240" cy="1257120"/>
        </p:xfrm>
        <a:graphic>
          <a:graphicData uri="http://schemas.openxmlformats.org/drawingml/2006/table">
            <a:tbl>
              <a:tblPr/>
              <a:tblGrid>
                <a:gridCol w="1947960"/>
                <a:gridCol w="186228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46.68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35.234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VARI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11.449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VARIAZIONE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4,5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3" name="CasellaDiTesto 7"/>
          <p:cNvSpPr/>
          <p:nvPr/>
        </p:nvSpPr>
        <p:spPr>
          <a:xfrm>
            <a:off x="6524640" y="243828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ncremento rispet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all’anno prece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+ 24,5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ttangolo 4"/>
          <p:cNvSpPr/>
          <p:nvPr/>
        </p:nvSpPr>
        <p:spPr>
          <a:xfrm>
            <a:off x="266760" y="457200"/>
            <a:ext cx="861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PASSIVO PATRIMONIALE – COMPOSIZIONE PERCENTUA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Grafico 5"/>
          <p:cNvGraphicFramePr/>
          <p:nvPr/>
        </p:nvGraphicFramePr>
        <p:xfrm>
          <a:off x="635040" y="1473120"/>
          <a:ext cx="7645320" cy="452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6" name="Grafic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1473120"/>
                    <a:ext cx="764532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ttangolo 4"/>
          <p:cNvSpPr/>
          <p:nvPr/>
        </p:nvSpPr>
        <p:spPr>
          <a:xfrm>
            <a:off x="876240" y="2727360"/>
            <a:ext cx="7810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ttangolo 1"/>
          <p:cNvSpPr/>
          <p:nvPr/>
        </p:nvSpPr>
        <p:spPr>
          <a:xfrm>
            <a:off x="372960" y="2249640"/>
            <a:ext cx="84582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2060"/>
                </a:solidFill>
                <a:latin typeface="Calibri"/>
                <a:ea typeface="Calibri"/>
              </a:rPr>
              <a:t>LA DISTRIBUZIONE PERCENTUALE DEI RICAVI E DEI COSTI DI ESERCIZ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itolo 1"/>
          <p:cNvSpPr/>
          <p:nvPr/>
        </p:nvSpPr>
        <p:spPr>
          <a:xfrm>
            <a:off x="1828800" y="685800"/>
            <a:ext cx="504684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ALISI DEI COSTI E DEI RIC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1:13:54Z</dcterms:created>
  <dc:creator>Federica Ruggiero</dc:creator>
  <dc:description/>
  <dc:language>en-US</dc:language>
  <cp:lastModifiedBy>maria paolucci</cp:lastModifiedBy>
  <cp:lastPrinted>2022-03-24T10:31:40Z</cp:lastPrinted>
  <dcterms:modified xsi:type="dcterms:W3CDTF">2022-03-26T14:00:18Z</dcterms:modified>
  <cp:revision>3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