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</p:sldIdLst>
  <p:sldSz cx="9144000" cy="6858000"/>
  <p:notesSz cx="10234613" cy="7099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"/>
          <p:cNvSpPr/>
          <p:nvPr/>
        </p:nvSpPr>
        <p:spPr>
          <a:xfrm>
            <a:off x="0" y="0"/>
            <a:ext cx="10234800" cy="709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435560" cy="353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ftr" idx="24"/>
          </p:nvPr>
        </p:nvSpPr>
        <p:spPr>
          <a:xfrm>
            <a:off x="-360" y="6742080"/>
            <a:ext cx="4435560" cy="3556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sldNum" idx="25"/>
          </p:nvPr>
        </p:nvSpPr>
        <p:spPr>
          <a:xfrm>
            <a:off x="5797080" y="6742080"/>
            <a:ext cx="4435560" cy="3556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EEEB0-B77F-4FCA-A66E-F5D9DA063572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sldImg"/>
          </p:nvPr>
        </p:nvSpPr>
        <p:spPr>
          <a:xfrm>
            <a:off x="0" y="53928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body"/>
          </p:nvPr>
        </p:nvSpPr>
        <p:spPr>
          <a:xfrm>
            <a:off x="1023480" y="3372120"/>
            <a:ext cx="8187480" cy="31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3341520" y="531720"/>
            <a:ext cx="3551400" cy="2664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1022400" y="3371400"/>
            <a:ext cx="81900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Segnaposto piè di pagina 9"/>
          <p:cNvSpPr/>
          <p:nvPr/>
        </p:nvSpPr>
        <p:spPr>
          <a:xfrm>
            <a:off x="0" y="6742080"/>
            <a:ext cx="4435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ssemblea Nazionale CIOFS-FP  Roma, 25-26 Ottobre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Segnaposto intestazione 1"/>
          <p:cNvSpPr/>
          <p:nvPr/>
        </p:nvSpPr>
        <p:spPr>
          <a:xfrm>
            <a:off x="0" y="0"/>
            <a:ext cx="4435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ilancio dell'esercizio 2011 del sistema CIOFS-F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3341520" y="531720"/>
            <a:ext cx="3551400" cy="2664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1022400" y="3371400"/>
            <a:ext cx="81900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Segnaposto piè di pagina 6"/>
          <p:cNvSpPr/>
          <p:nvPr/>
        </p:nvSpPr>
        <p:spPr>
          <a:xfrm>
            <a:off x="0" y="6742080"/>
            <a:ext cx="4435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ssemblea Nazionale CIOFS-FP  Roma, 25-26 Ottobre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Segnaposto intestazione 1"/>
          <p:cNvSpPr/>
          <p:nvPr/>
        </p:nvSpPr>
        <p:spPr>
          <a:xfrm>
            <a:off x="0" y="0"/>
            <a:ext cx="4435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ilancio dell'esercizio 2011 del sistema CIOFS-F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3341520" y="531720"/>
            <a:ext cx="3551400" cy="2664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1022400" y="3371400"/>
            <a:ext cx="81900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Segnaposto piè di pagina 9"/>
          <p:cNvSpPr/>
          <p:nvPr/>
        </p:nvSpPr>
        <p:spPr>
          <a:xfrm>
            <a:off x="0" y="6742080"/>
            <a:ext cx="4435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ssemblea Nazionale CIOFS-FP  Roma, 25-26 Ottobre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Segnaposto intestazione 1"/>
          <p:cNvSpPr/>
          <p:nvPr/>
        </p:nvSpPr>
        <p:spPr>
          <a:xfrm>
            <a:off x="0" y="0"/>
            <a:ext cx="4435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ilancio dell'esercizio 2011 del sistema CIOFS-F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3341520" y="531720"/>
            <a:ext cx="3551400" cy="2664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1022400" y="3371400"/>
            <a:ext cx="81900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Segnaposto piè di pagina 9"/>
          <p:cNvSpPr/>
          <p:nvPr/>
        </p:nvSpPr>
        <p:spPr>
          <a:xfrm>
            <a:off x="0" y="6742080"/>
            <a:ext cx="4435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ssemblea Nazionale CIOFS-FP  Roma, 25-26 Ottobre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Segnaposto intestazione 1"/>
          <p:cNvSpPr/>
          <p:nvPr/>
        </p:nvSpPr>
        <p:spPr>
          <a:xfrm>
            <a:off x="0" y="0"/>
            <a:ext cx="4435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ilancio dell'esercizio 2011 del sistema CIOFS-F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3341520" y="531720"/>
            <a:ext cx="3551400" cy="2664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1022400" y="3371400"/>
            <a:ext cx="81900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Segnaposto piè di pagina 9"/>
          <p:cNvSpPr/>
          <p:nvPr/>
        </p:nvSpPr>
        <p:spPr>
          <a:xfrm>
            <a:off x="0" y="6742080"/>
            <a:ext cx="4435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ssemblea Nazionale CIOFS-FP  Roma, 25-26 Ottobre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Segnaposto intestazione 1"/>
          <p:cNvSpPr/>
          <p:nvPr/>
        </p:nvSpPr>
        <p:spPr>
          <a:xfrm>
            <a:off x="0" y="0"/>
            <a:ext cx="4435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ilancio dell'esercizio 2011 del sistema CIOFS-F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3341520" y="531720"/>
            <a:ext cx="3551400" cy="2664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1022400" y="3371400"/>
            <a:ext cx="81900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Segnaposto piè di pagina 9"/>
          <p:cNvSpPr/>
          <p:nvPr/>
        </p:nvSpPr>
        <p:spPr>
          <a:xfrm>
            <a:off x="0" y="6742080"/>
            <a:ext cx="4435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ssemblea Nazionale CIOFS-FP  Roma, 25-26 Ottobre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Segnaposto intestazione 1"/>
          <p:cNvSpPr/>
          <p:nvPr/>
        </p:nvSpPr>
        <p:spPr>
          <a:xfrm>
            <a:off x="0" y="0"/>
            <a:ext cx="4435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ilancio dell'esercizio 2011 del sistema CIOFS-F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3341520" y="531720"/>
            <a:ext cx="3551400" cy="2664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1022400" y="3371400"/>
            <a:ext cx="81900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Segnaposto piè di pagina 9"/>
          <p:cNvSpPr/>
          <p:nvPr/>
        </p:nvSpPr>
        <p:spPr>
          <a:xfrm>
            <a:off x="0" y="6742080"/>
            <a:ext cx="4435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ssemblea Nazionale CIOFS-FP  Roma, 25-26 Ottobre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Segnaposto intestazione 1"/>
          <p:cNvSpPr/>
          <p:nvPr/>
        </p:nvSpPr>
        <p:spPr>
          <a:xfrm>
            <a:off x="0" y="0"/>
            <a:ext cx="4435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ilancio dell'esercizio 2011 del sistema CIOFS-F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3341520" y="531720"/>
            <a:ext cx="3551400" cy="2664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1022400" y="3371400"/>
            <a:ext cx="81900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Segnaposto piè di pagina 9"/>
          <p:cNvSpPr/>
          <p:nvPr/>
        </p:nvSpPr>
        <p:spPr>
          <a:xfrm>
            <a:off x="0" y="6742080"/>
            <a:ext cx="4435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ssemblea Nazionale CIOFS-FP  Roma, 25-26 Ottobre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Segnaposto intestazione 1"/>
          <p:cNvSpPr/>
          <p:nvPr/>
        </p:nvSpPr>
        <p:spPr>
          <a:xfrm>
            <a:off x="0" y="0"/>
            <a:ext cx="4435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ilancio dell'esercizio 2011 del sistema CIOFS-F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3341520" y="531720"/>
            <a:ext cx="3551400" cy="2664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1022400" y="3371400"/>
            <a:ext cx="81900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Segnaposto piè di pagina 9"/>
          <p:cNvSpPr/>
          <p:nvPr/>
        </p:nvSpPr>
        <p:spPr>
          <a:xfrm>
            <a:off x="0" y="6742080"/>
            <a:ext cx="4435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ssemblea Nazionale CIOFS-FP  Roma, 25-26 Ottobre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Segnaposto intestazione 1"/>
          <p:cNvSpPr/>
          <p:nvPr/>
        </p:nvSpPr>
        <p:spPr>
          <a:xfrm>
            <a:off x="0" y="0"/>
            <a:ext cx="4435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ilancio dell'esercizio 2011 del sistema CIOFS-F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3341520" y="531720"/>
            <a:ext cx="3551400" cy="26640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1022400" y="3371400"/>
            <a:ext cx="81900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Segnaposto piè di pagina 6"/>
          <p:cNvSpPr/>
          <p:nvPr/>
        </p:nvSpPr>
        <p:spPr>
          <a:xfrm>
            <a:off x="0" y="6742080"/>
            <a:ext cx="4435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ssemblea Nazionale CIOFS-FP  Roma, 25-26 Ottobre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Segnaposto intestazione 1"/>
          <p:cNvSpPr/>
          <p:nvPr/>
        </p:nvSpPr>
        <p:spPr>
          <a:xfrm>
            <a:off x="0" y="0"/>
            <a:ext cx="4435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ilancio dell'esercizio 2011 del sistema CIOFS-F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73FA-543C-4BCD-B11A-1BFF8B3FD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2FB0-CAD8-4347-812D-E37E27044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9604E8-CB88-4EF6-8ECD-6B40C497D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27E1FA-71CD-404A-ABF9-40B879126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D27DDF-B5EA-4755-A85B-24421EE19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2FC829-14D8-4EEC-8C8D-7076703A2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806A98-C7B1-4C90-A27E-FB8812C54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FDF4ED-649E-4832-8728-75CACF5CA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04B770-1FA7-4C26-A64F-21585678A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25BE5A-213E-4151-950E-7E9CB056B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6A8529-5113-4020-893A-819ECF80B83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DC2633-BD85-405F-AD3A-AA309FB4A8D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EE3F-DDD9-4765-BC0D-B6BADAB78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0FEE63B-A8C1-47A6-8817-ACFB5157F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0EB7A7-7986-4FA5-915B-7975A64C4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20AE6BF-DF35-4F8A-8C46-54CCB5A27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5D8B870-741D-405A-95C0-12AD1CD36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80B374-888D-4EBB-9D53-4AD5EFF02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05ED238-CB50-4480-BCDB-9CEB945B8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167B71-8786-456E-8234-6040323B4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E90DC9-27E6-4DB1-A714-C48DDA627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827CD7E-4FB8-4493-AD86-E80A9888D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9970210-3EB1-40F3-AB79-269A2AD9F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BCB2-EADF-4A5E-AA3E-FB4C5768A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B33BCA2-E3B8-42B8-B8DB-00D5752B19A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D43F713-04BD-4085-A92D-941EA6D3952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2B12FBC-3FDE-4D26-94A6-26B2335E9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31541F7-0490-40EB-AA16-37E1BEFBF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D66BBE8-7DC6-4D13-A566-9D2CCDDDC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C924A35-AE6A-412D-810A-98E99F7D3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F7860A0-6C89-42DB-83E2-73C15BAEA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B9EEBB2-5359-4DE2-A7AD-88FD75A7E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C6BD784-7E3C-4413-B0D2-29D8C6414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B547C3C-044B-4353-8E53-73EBDBF39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BBFBF-B823-413C-8E88-E23BA76FE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F2DCB47-1514-46BB-A653-27858DDA9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7CAB082-1DFD-4AE0-BD70-71427C62C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CEC2932-AA97-4CC5-BF50-7EF43892F27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3ECE3A-9CCA-42CC-AAF9-A2C0D96AE37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3F83E6-86FE-4D82-BACE-AE23CCFF3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8E055C-AEBF-46C6-A8AF-94A43675A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D471DE-77FD-4B3B-8EF3-6E152BE31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1AA38A-D7BF-477C-BF58-51F8B6D39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A212E0-E78E-4D9A-AA50-52AC522E3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09F84E-6565-4D97-BCBD-0F45291B0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5FC6A-2194-4482-A470-8145E1AFD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9DA354-D150-4C36-B509-742E01524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EA17CF-39C4-485F-A167-74CB0E02A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7B2E92-DE66-4133-AA4D-9A22A97BB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BB8FEC-6E45-439E-88D4-BEE13790C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908456-6CD8-4E19-AA22-D78FB0D7517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AC35027-CC46-4679-AA2C-283256AAD75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2D34404-602C-4C30-AD84-3A927E63F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141A8FA-98CB-4291-A812-2798D44F1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45767D4-38DC-4E47-9D5B-28405A12A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04527CE-41AA-4A43-9CCE-8077EC40F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76719-0F7C-4DD0-960D-6F1FF81B5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201B809-C3B8-4D95-8A81-B4B1E09CC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8D7967E-0E1D-4F1E-8725-8BC398EF2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D486FD2-E72C-4368-8ADD-77E0D485E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A426AF4-5922-42BE-883F-2DA86B2B6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95A713C-B444-4EA6-83FA-0269C5544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125D7A8-83E0-4565-ADE0-5369C5DAE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914A653-CEEF-4EF2-9B83-0F753CC707F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75008-B67A-4A2C-A1A8-8A0A676EB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734B6-875D-41E5-9BA1-AF42913EF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597F1-2F64-481F-B736-D0DCE8D80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439AA-C8EE-4170-B81B-59EBCC196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11D7-D230-4CED-8EB9-366444FAE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62E06-4AD1-4FAB-8D87-7A83540BB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83684-473D-455D-AD9D-B26641FBB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7B52C-6557-408C-B0E7-B34EFEF5D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A04A2-D551-4547-A83A-A5AAC13A2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1E465-BA12-4D9E-AA73-093F5FABD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C005FB-CBCD-4DCB-9B77-BF6F0A457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E23319-D260-4A7E-8208-3CE56EA5C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EB333F-1BB3-47E2-9C79-6A5D2B188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C6FA11-FD15-461C-A862-AA0B87510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08DF0E-73A8-4717-8AD9-6F0344B71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E4EB-D045-4688-911F-00821FC0B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161EDA-E0EA-4A89-AA2F-44C30505C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9BDAC6-FAEE-431F-8B92-6B6472D9A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53FB0B-A6E3-49DA-8E9A-1784C1279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6914BD-90A5-4CAB-8791-C1BCD7E42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A1A45D-4147-43DA-BD07-FF157C0B2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6E357D-829B-4215-A274-900A3AF25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94494F-3FAE-47FC-8FC7-111B7E0BC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BF9A-100B-4123-8560-BB9452303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319D-92ED-43A1-9D66-9A4AE3A5B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1983-718D-42FC-933A-207B7D820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BEC1-650E-4E64-94DB-B49E6FB27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95B0558-E212-4D3C-A570-A4F26EE5274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17B4400-6D08-40B5-8C4B-5B50B75F4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B836D5B-9E58-4A14-B5BB-E38D08E36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CDAF0D0-94D4-42FB-A6EB-BA3300E05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9C6B127-3268-4E34-A05C-52330B33F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A3E15C1-538F-4A5A-BC4F-F06B93E90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9D9C819-829B-452A-BE5E-F2CBB9FFC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E416-4345-4182-B926-AB4691B79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AE74A44-37CB-464C-BAD4-0D4A0ECEF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BCF0C1C-6355-4ABD-A19D-167D3D80C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BE02F8A-21BA-48E6-9304-EFE1DEA21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D8AA4D9-3578-4149-BEE2-C6AED104C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539B425-5294-4140-BD9C-A9395B3EA1C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782498A-EF2B-4E1B-84FF-6881396A3DD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4D1F8E3-E765-46C8-A375-8F6468C71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5218DCF-4469-4E1F-93E1-A5D264524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0346B56-7B9F-4933-9249-EF1B2C43D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34B6C24-D701-4CF9-840B-15F943951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DA4D-19A7-4F8F-A2BB-0BEC018EA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8317D93-0B0B-44CD-A60B-5EC2F401B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B2445A4-0518-4D37-87EB-E4B112DBD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C9DE3A7-F114-4C2B-BE7A-5BF4273E5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A317AC4-E712-4644-B264-81787D8AD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41D610A-6E1F-4E57-B34A-0C2F82CF1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5FDE050-17A4-4B38-A33F-D24C2B84D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33F8AD3-3D48-4945-909D-84DA0BB3E61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B1D6C0-0D8D-4B38-85D2-D8FCB9C7AA8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DCE1E7-CA51-4416-82A3-7193B2C8B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3A3BFE-C3DA-418E-ADB4-0D5D92EF8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Assemblea Nazionale CIOFS-FP  Roma, 25-26 Ottobre 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1FE26-D217-49D7-819B-F271D70B5BE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2F6CB-4D0A-450A-8390-00E359F213C4}" type="slidenum"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 type="dt" idx="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 type="sldNum" idx="1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DE534-01D4-42EE-9CF6-40F4C6D6FEA6}" type="slidenum"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DDD84-2E25-4B88-9948-5BB8D527F9E5}" type="slidenum"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sldNum" idx="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562B2-6200-46DC-9415-DFA0137F7305}" type="slidenum"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Assemblea Nazionale CIOFS-FP  Roma, 25-26 Ottobre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DCA95-5EF6-4BAF-8F44-0FEE46DB113A}" type="slidenum"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A1288-0546-4D4E-B177-A5EEDE12868B}" type="slidenum"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Gruppo 6" descr=""/>
          <p:cNvPicPr/>
          <p:nvPr/>
        </p:nvPicPr>
        <p:blipFill>
          <a:blip r:embed="rId2"/>
          <a:stretch/>
        </p:blipFill>
        <p:spPr>
          <a:xfrm>
            <a:off x="79200" y="66600"/>
            <a:ext cx="4797720" cy="847800"/>
          </a:xfrm>
          <a:prstGeom prst="rect">
            <a:avLst/>
          </a:prstGeom>
          <a:ln w="0">
            <a:noFill/>
          </a:ln>
        </p:spPr>
      </p:pic>
      <p:sp>
        <p:nvSpPr>
          <p:cNvPr id="124" name="Rettangolo 9"/>
          <p:cNvSpPr/>
          <p:nvPr/>
        </p:nvSpPr>
        <p:spPr>
          <a:xfrm>
            <a:off x="0" y="455760"/>
            <a:ext cx="9144000" cy="458640"/>
          </a:xfrm>
          <a:prstGeom prst="rect">
            <a:avLst/>
          </a:prstGeom>
          <a:solidFill>
            <a:srgbClr val="66b5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Gruppo 4"/>
          <p:cNvGrpSpPr/>
          <p:nvPr/>
        </p:nvGrpSpPr>
        <p:grpSpPr>
          <a:xfrm>
            <a:off x="-6480" y="6391440"/>
            <a:ext cx="9041040" cy="237960"/>
            <a:chOff x="-6480" y="6391440"/>
            <a:chExt cx="9041040" cy="237960"/>
          </a:xfrm>
        </p:grpSpPr>
        <p:pic>
          <p:nvPicPr>
            <p:cNvPr id="126" name="Immagine 1" descr=""/>
            <p:cNvPicPr/>
            <p:nvPr/>
          </p:nvPicPr>
          <p:blipFill>
            <a:blip r:embed="rId3"/>
            <a:stretch/>
          </p:blipFill>
          <p:spPr>
            <a:xfrm>
              <a:off x="7543800" y="6391440"/>
              <a:ext cx="1490760" cy="23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Rettangolo 12"/>
            <p:cNvSpPr/>
            <p:nvPr/>
          </p:nvSpPr>
          <p:spPr>
            <a:xfrm>
              <a:off x="-6480" y="6570720"/>
              <a:ext cx="7412400" cy="48960"/>
            </a:xfrm>
            <a:prstGeom prst="rect">
              <a:avLst/>
            </a:prstGeom>
            <a:solidFill>
              <a:srgbClr val="ffd8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Titolo 1"/>
          <p:cNvSpPr/>
          <p:nvPr/>
        </p:nvSpPr>
        <p:spPr>
          <a:xfrm>
            <a:off x="-19080" y="6622920"/>
            <a:ext cx="5388120" cy="2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Calibri"/>
                <a:ea typeface="Calibri"/>
              </a:rPr>
              <a:t>Assemblea Nazionale e CDN CIOFS-FP  Roma, 2-4 aprile 201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Gruppo 6" descr=""/>
          <p:cNvPicPr/>
          <p:nvPr/>
        </p:nvPicPr>
        <p:blipFill>
          <a:blip r:embed="rId2"/>
          <a:stretch/>
        </p:blipFill>
        <p:spPr>
          <a:xfrm>
            <a:off x="79200" y="73080"/>
            <a:ext cx="4797720" cy="439560"/>
          </a:xfrm>
          <a:prstGeom prst="rect">
            <a:avLst/>
          </a:prstGeom>
          <a:ln w="0">
            <a:noFill/>
          </a:ln>
        </p:spPr>
      </p:pic>
      <p:sp>
        <p:nvSpPr>
          <p:cNvPr id="168" name="Rettangolo 9"/>
          <p:cNvSpPr/>
          <p:nvPr/>
        </p:nvSpPr>
        <p:spPr>
          <a:xfrm>
            <a:off x="0" y="455760"/>
            <a:ext cx="9144000" cy="458640"/>
          </a:xfrm>
          <a:prstGeom prst="rect">
            <a:avLst/>
          </a:prstGeom>
          <a:solidFill>
            <a:srgbClr val="f8b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Gruppo 10"/>
          <p:cNvGrpSpPr/>
          <p:nvPr/>
        </p:nvGrpSpPr>
        <p:grpSpPr>
          <a:xfrm>
            <a:off x="-6480" y="6391440"/>
            <a:ext cx="9041040" cy="237960"/>
            <a:chOff x="-6480" y="6391440"/>
            <a:chExt cx="9041040" cy="237960"/>
          </a:xfrm>
        </p:grpSpPr>
        <p:pic>
          <p:nvPicPr>
            <p:cNvPr id="170" name="Immagine 11" descr=""/>
            <p:cNvPicPr/>
            <p:nvPr/>
          </p:nvPicPr>
          <p:blipFill>
            <a:blip r:embed="rId3"/>
            <a:stretch/>
          </p:blipFill>
          <p:spPr>
            <a:xfrm>
              <a:off x="7543800" y="6391440"/>
              <a:ext cx="1490760" cy="23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Rettangolo 12"/>
            <p:cNvSpPr/>
            <p:nvPr/>
          </p:nvSpPr>
          <p:spPr>
            <a:xfrm>
              <a:off x="-6480" y="6570720"/>
              <a:ext cx="7412400" cy="48960"/>
            </a:xfrm>
            <a:prstGeom prst="rect">
              <a:avLst/>
            </a:prstGeom>
            <a:solidFill>
              <a:srgbClr val="ffd8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Titolo 1"/>
          <p:cNvSpPr/>
          <p:nvPr/>
        </p:nvSpPr>
        <p:spPr>
          <a:xfrm>
            <a:off x="-19080" y="6622920"/>
            <a:ext cx="5388120" cy="2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9446e"/>
                </a:solidFill>
                <a:latin typeface="Calibri"/>
                <a:ea typeface="Calibri"/>
              </a:rPr>
              <a:t>Assemblea Nazionale CIOFS-FP - Roma, 25 marzo 202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Gruppo 6" descr=""/>
          <p:cNvPicPr/>
          <p:nvPr/>
        </p:nvPicPr>
        <p:blipFill>
          <a:blip r:embed="rId2"/>
          <a:stretch/>
        </p:blipFill>
        <p:spPr>
          <a:xfrm>
            <a:off x="42840" y="66600"/>
            <a:ext cx="4834080" cy="847800"/>
          </a:xfrm>
          <a:prstGeom prst="rect">
            <a:avLst/>
          </a:prstGeom>
          <a:ln w="0">
            <a:noFill/>
          </a:ln>
        </p:spPr>
      </p:pic>
      <p:sp>
        <p:nvSpPr>
          <p:cNvPr id="212" name="Rettangolo 9"/>
          <p:cNvSpPr/>
          <p:nvPr/>
        </p:nvSpPr>
        <p:spPr>
          <a:xfrm>
            <a:off x="0" y="455760"/>
            <a:ext cx="9144000" cy="4586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ttangolo 10"/>
          <p:cNvSpPr/>
          <p:nvPr/>
        </p:nvSpPr>
        <p:spPr>
          <a:xfrm>
            <a:off x="-6480" y="6570720"/>
            <a:ext cx="7412040" cy="49320"/>
          </a:xfrm>
          <a:prstGeom prst="rect">
            <a:avLst/>
          </a:prstGeom>
          <a:solidFill>
            <a:srgbClr val="ffd8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itolo 1"/>
          <p:cNvSpPr/>
          <p:nvPr/>
        </p:nvSpPr>
        <p:spPr>
          <a:xfrm>
            <a:off x="-19080" y="6622920"/>
            <a:ext cx="5388120" cy="2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9446e"/>
                </a:solidFill>
                <a:latin typeface="Calibri"/>
                <a:ea typeface="Calibri"/>
              </a:rPr>
              <a:t>Assemblea e CDN - Roma, 26/27 marzo 202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Immagine 12" descr=""/>
          <p:cNvPicPr/>
          <p:nvPr/>
        </p:nvPicPr>
        <p:blipFill>
          <a:blip r:embed="rId3"/>
          <a:stretch/>
        </p:blipFill>
        <p:spPr>
          <a:xfrm>
            <a:off x="7543800" y="6248520"/>
            <a:ext cx="1374840" cy="42696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C20B3-9447-4640-AD72-196ACF60334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sldNum" idx="1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294DE-E399-46D1-8FFA-3663AA64112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1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DD056-461F-402A-8442-3348F45E32EA}" type="slidenum"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ttangolo 40"/>
          <p:cNvSpPr/>
          <p:nvPr/>
        </p:nvSpPr>
        <p:spPr>
          <a:xfrm>
            <a:off x="0" y="5811840"/>
            <a:ext cx="9140760" cy="1046160"/>
          </a:xfrm>
          <a:prstGeom prst="rect">
            <a:avLst/>
          </a:prstGeom>
          <a:solidFill>
            <a:srgbClr val="0083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itolo 1"/>
          <p:cNvSpPr/>
          <p:nvPr/>
        </p:nvSpPr>
        <p:spPr>
          <a:xfrm>
            <a:off x="228600" y="6194520"/>
            <a:ext cx="297504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ttangolo 35"/>
          <p:cNvSpPr/>
          <p:nvPr/>
        </p:nvSpPr>
        <p:spPr>
          <a:xfrm>
            <a:off x="7927920" y="839880"/>
            <a:ext cx="1216080" cy="1295280"/>
          </a:xfrm>
          <a:prstGeom prst="rect">
            <a:avLst/>
          </a:prstGeom>
          <a:solidFill>
            <a:srgbClr val="7b23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ttangolo 37"/>
          <p:cNvSpPr/>
          <p:nvPr/>
        </p:nvSpPr>
        <p:spPr>
          <a:xfrm flipV="1" rot="10800000">
            <a:off x="2743200" y="406800"/>
            <a:ext cx="4332240" cy="17319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Roma, 26 marzo 202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CD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ttangolo 41"/>
          <p:cNvSpPr/>
          <p:nvPr/>
        </p:nvSpPr>
        <p:spPr>
          <a:xfrm>
            <a:off x="0" y="3232080"/>
            <a:ext cx="9144000" cy="1411200"/>
          </a:xfrm>
          <a:prstGeom prst="rect">
            <a:avLst/>
          </a:prstGeom>
          <a:solidFill>
            <a:srgbClr val="f8b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ttangolo 27"/>
          <p:cNvSpPr/>
          <p:nvPr/>
        </p:nvSpPr>
        <p:spPr>
          <a:xfrm>
            <a:off x="7075440" y="2135160"/>
            <a:ext cx="852480" cy="442800"/>
          </a:xfrm>
          <a:prstGeom prst="rect">
            <a:avLst/>
          </a:prstGeom>
          <a:solidFill>
            <a:srgbClr val="f28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ttangolo 32"/>
          <p:cNvSpPr/>
          <p:nvPr/>
        </p:nvSpPr>
        <p:spPr>
          <a:xfrm>
            <a:off x="7075440" y="-23760"/>
            <a:ext cx="852480" cy="863640"/>
          </a:xfrm>
          <a:prstGeom prst="rect">
            <a:avLst/>
          </a:prstGeom>
          <a:solidFill>
            <a:srgbClr val="0083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419360" y="3648240"/>
            <a:ext cx="4360680" cy="1411200"/>
          </a:xfrm>
          <a:prstGeom prst="rect">
            <a:avLst/>
          </a:prstGeom>
          <a:solidFill>
            <a:srgbClr val="f28e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2874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  <a:ea typeface="Calibri"/>
              </a:rPr>
              <a:t>CIOFS SCUOLA FMA</a:t>
            </a: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Arial"/>
                <a:ea typeface="Calibri"/>
              </a:rPr>
              <a:t>- BILANCIO 2021 </a:t>
            </a: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Arial"/>
                <a:ea typeface="Calibri"/>
              </a:rPr>
              <a:t>- PREVENTIVO 20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Immagine 1" descr=""/>
          <p:cNvPicPr/>
          <p:nvPr/>
        </p:nvPicPr>
        <p:blipFill>
          <a:blip r:embed="rId1"/>
          <a:stretch/>
        </p:blipFill>
        <p:spPr>
          <a:xfrm>
            <a:off x="3425760" y="5905440"/>
            <a:ext cx="2244960" cy="72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ttangolo 1"/>
          <p:cNvSpPr/>
          <p:nvPr/>
        </p:nvSpPr>
        <p:spPr>
          <a:xfrm>
            <a:off x="510480" y="457200"/>
            <a:ext cx="207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ffffff"/>
                </a:solidFill>
                <a:latin typeface="Calibri"/>
              </a:rPr>
              <a:t>IL FATTURAT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ttangolo 2"/>
          <p:cNvSpPr/>
          <p:nvPr/>
        </p:nvSpPr>
        <p:spPr>
          <a:xfrm>
            <a:off x="1714680" y="934920"/>
            <a:ext cx="62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9446e"/>
                </a:solidFill>
                <a:latin typeface="Calibri"/>
              </a:rPr>
              <a:t>Incremento rispetto all’esercizio precedente pari a +40,50%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2" name=""/>
          <p:cNvGraphicFramePr/>
          <p:nvPr/>
        </p:nvGraphicFramePr>
        <p:xfrm>
          <a:off x="2133720" y="1295280"/>
          <a:ext cx="4572000" cy="1344600"/>
        </p:xfrm>
        <a:graphic>
          <a:graphicData uri="http://schemas.openxmlformats.org/drawingml/2006/table">
            <a:tbl>
              <a:tblPr/>
              <a:tblGrid>
                <a:gridCol w="2350800"/>
                <a:gridCol w="2221200"/>
              </a:tblGrid>
              <a:tr h="2379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9446e"/>
                          </a:solidFill>
                          <a:latin typeface="Calibri Light"/>
                        </a:rPr>
                        <a:t>CONTO ECONOMIC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9446e"/>
                          </a:solidFill>
                          <a:latin typeface="Calibri Light"/>
                        </a:rPr>
                        <a:t>RICAV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79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9446e"/>
                          </a:solidFill>
                          <a:latin typeface="Calibri Light"/>
                        </a:rPr>
                        <a:t>202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9446e"/>
                          </a:solidFill>
                          <a:latin typeface="Calibri Light"/>
                        </a:rPr>
                        <a:t>149.032,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79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9446e"/>
                          </a:solidFill>
                          <a:latin typeface="Calibri Light"/>
                        </a:rPr>
                        <a:t>202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9446e"/>
                          </a:solidFill>
                          <a:latin typeface="Calibri Light"/>
                        </a:rPr>
                        <a:t>88.674,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79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9446e"/>
                          </a:solidFill>
                          <a:latin typeface="Calibri Light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9446e"/>
                          </a:solidFill>
                          <a:latin typeface="Calibri Light"/>
                        </a:rPr>
                        <a:t>60.358,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9446e"/>
                          </a:solidFill>
                          <a:latin typeface="Calibri Light"/>
                        </a:rPr>
                        <a:t>VARIAZIONI % 2021/202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9446e"/>
                          </a:solidFill>
                          <a:latin typeface="Calibri Light"/>
                        </a:rPr>
                        <a:t>40,50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3" name="Rettangolo 5"/>
          <p:cNvSpPr/>
          <p:nvPr/>
        </p:nvSpPr>
        <p:spPr>
          <a:xfrm>
            <a:off x="-152280" y="281448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70c0"/>
                </a:solidFill>
                <a:latin typeface="Calibri Light"/>
                <a:ea typeface="Calibri"/>
              </a:rPr>
              <a:t>Distribuzione percentuale dei ricavi per progetti/attivit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4" name="Grafico 11"/>
          <p:cNvGraphicFramePr/>
          <p:nvPr/>
        </p:nvGraphicFramePr>
        <p:xfrm>
          <a:off x="196920" y="2763720"/>
          <a:ext cx="8750160" cy="3675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75" name="Grafico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6920" y="2763720"/>
                    <a:ext cx="8750160" cy="367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ttangolo 4"/>
          <p:cNvSpPr/>
          <p:nvPr/>
        </p:nvSpPr>
        <p:spPr>
          <a:xfrm>
            <a:off x="876240" y="2727360"/>
            <a:ext cx="78105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ttangolo 1"/>
          <p:cNvSpPr/>
          <p:nvPr/>
        </p:nvSpPr>
        <p:spPr>
          <a:xfrm>
            <a:off x="380880" y="2494080"/>
            <a:ext cx="8458200" cy="77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5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70c0"/>
                </a:solidFill>
                <a:latin typeface="Calibri"/>
              </a:rPr>
              <a:t>LA DISTRIBUZIONE PERCENTUALE DEI COST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ttangolo 1"/>
          <p:cNvSpPr/>
          <p:nvPr/>
        </p:nvSpPr>
        <p:spPr>
          <a:xfrm>
            <a:off x="538560" y="457200"/>
            <a:ext cx="1108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ffffff"/>
                </a:solidFill>
                <a:latin typeface="Calibri"/>
              </a:rPr>
              <a:t>I COSTI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ttangolo 2"/>
          <p:cNvSpPr/>
          <p:nvPr/>
        </p:nvSpPr>
        <p:spPr>
          <a:xfrm flipH="1">
            <a:off x="7127280" y="1041480"/>
            <a:ext cx="1981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9446e"/>
                </a:solidFill>
                <a:latin typeface="Calibri"/>
              </a:rPr>
              <a:t>Incremento rispetto all’esercizio precedente pari al +25,58 %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0" name="Grafico 7"/>
          <p:cNvGraphicFramePr/>
          <p:nvPr/>
        </p:nvGraphicFramePr>
        <p:xfrm>
          <a:off x="177840" y="2692440"/>
          <a:ext cx="8559720" cy="3927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81" name="Grafico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840" y="2692440"/>
                    <a:ext cx="8559720" cy="392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2" name="CasellaDiTesto 2"/>
          <p:cNvSpPr/>
          <p:nvPr/>
        </p:nvSpPr>
        <p:spPr>
          <a:xfrm>
            <a:off x="969840" y="2676600"/>
            <a:ext cx="601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9446e"/>
                </a:solidFill>
                <a:latin typeface="Calibri"/>
                <a:ea typeface="Calibri"/>
              </a:rPr>
              <a:t>DISTRIBUZIONE PERCENTUALE DEI COST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3" name=""/>
          <p:cNvGraphicFramePr/>
          <p:nvPr/>
        </p:nvGraphicFramePr>
        <p:xfrm>
          <a:off x="1905120" y="1014480"/>
          <a:ext cx="4800600" cy="1533600"/>
        </p:xfrm>
        <a:graphic>
          <a:graphicData uri="http://schemas.openxmlformats.org/drawingml/2006/table">
            <a:tbl>
              <a:tblPr/>
              <a:tblGrid>
                <a:gridCol w="2468520"/>
                <a:gridCol w="2332080"/>
              </a:tblGrid>
              <a:tr h="257040"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9446e"/>
                          </a:solidFill>
                          <a:latin typeface="Calibri"/>
                        </a:rPr>
                        <a:t>CONTO ECONOMICO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9446e"/>
                          </a:solidFill>
                          <a:latin typeface="Calibri"/>
                        </a:rPr>
                        <a:t>COST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400"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09446e"/>
                          </a:solidFill>
                          <a:latin typeface="Calibri"/>
                        </a:rPr>
                        <a:t>202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09446e"/>
                          </a:solidFill>
                          <a:latin typeface="Calibri"/>
                        </a:rPr>
                        <a:t>151.362,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040"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09446e"/>
                          </a:solidFill>
                          <a:latin typeface="Calibri"/>
                        </a:rPr>
                        <a:t>202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09446e"/>
                          </a:solidFill>
                          <a:latin typeface="Calibri"/>
                        </a:rPr>
                        <a:t>112.648,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9446e"/>
                          </a:solidFill>
                          <a:latin typeface="Calibri"/>
                        </a:rPr>
                        <a:t>VARIAZIONE ASSOLUT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9446e"/>
                          </a:solidFill>
                          <a:latin typeface="Calibri"/>
                        </a:rPr>
                        <a:t>38.714,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400"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9446e"/>
                          </a:solidFill>
                          <a:latin typeface="Calibri"/>
                        </a:rPr>
                        <a:t>VARIAZIONE 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9446e"/>
                          </a:solidFill>
                          <a:latin typeface="Calibri"/>
                        </a:rPr>
                        <a:t>25,58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ttangolo 1"/>
          <p:cNvSpPr/>
          <p:nvPr/>
        </p:nvSpPr>
        <p:spPr>
          <a:xfrm>
            <a:off x="543600" y="360360"/>
            <a:ext cx="39877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500" spc="-1" strike="noStrike">
                <a:solidFill>
                  <a:srgbClr val="ffffff"/>
                </a:solidFill>
                <a:latin typeface="Calibri"/>
              </a:rPr>
              <a:t>Risultato di esercizio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ttangolo 2"/>
          <p:cNvSpPr/>
          <p:nvPr/>
        </p:nvSpPr>
        <p:spPr>
          <a:xfrm flipH="1">
            <a:off x="762120" y="1371600"/>
            <a:ext cx="769608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500" spc="-1" strike="noStrike">
                <a:solidFill>
                  <a:srgbClr val="09446e"/>
                </a:solidFill>
                <a:latin typeface="Calibri"/>
              </a:rPr>
              <a:t>A seguito delle risultanze di bilanci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500" spc="-1" strike="noStrike">
                <a:solidFill>
                  <a:srgbClr val="09446e"/>
                </a:solidFill>
                <a:latin typeface="Calibri"/>
              </a:rPr>
              <a:t>si  evidenzi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500" spc="-1" strike="noStrike" u="sng">
                <a:solidFill>
                  <a:srgbClr val="09446e"/>
                </a:solidFill>
                <a:uFillTx/>
                <a:latin typeface="Calibri"/>
              </a:rPr>
              <a:t>un disavanzo di esercizio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500" spc="-1" strike="noStrike">
                <a:solidFill>
                  <a:srgbClr val="09446e"/>
                </a:solidFill>
                <a:latin typeface="Calibri"/>
              </a:rPr>
              <a:t>pari ad euro  3.00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500" spc="-1" strike="noStrike">
                <a:solidFill>
                  <a:srgbClr val="09446e"/>
                </a:solidFill>
                <a:latin typeface="Calibri"/>
              </a:rPr>
              <a:t> </a:t>
            </a:r>
            <a:r>
              <a:rPr b="1" i="1" lang="it-IT" sz="2500" spc="-1" strike="noStrike">
                <a:solidFill>
                  <a:srgbClr val="09446e"/>
                </a:solidFill>
                <a:latin typeface="Calibri"/>
              </a:rPr>
              <a:t>dopo le imposte per IRAP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500" spc="-1" strike="noStrike">
                <a:solidFill>
                  <a:srgbClr val="09446e"/>
                </a:solidFill>
                <a:latin typeface="Calibri"/>
              </a:rPr>
              <a:t>pari ad euro</a:t>
            </a:r>
            <a:r>
              <a:rPr b="1" lang="it-IT" sz="2500" spc="-1" strike="noStrike">
                <a:solidFill>
                  <a:srgbClr val="09446e"/>
                </a:solidFill>
                <a:latin typeface="Calibri"/>
              </a:rPr>
              <a:t> </a:t>
            </a:r>
            <a:r>
              <a:rPr b="1" i="1" lang="it-IT" sz="2500" spc="-1" strike="noStrike">
                <a:solidFill>
                  <a:srgbClr val="09446e"/>
                </a:solidFill>
                <a:latin typeface="Calibri"/>
              </a:rPr>
              <a:t>67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Titolo 1"/>
          <p:cNvSpPr/>
          <p:nvPr/>
        </p:nvSpPr>
        <p:spPr>
          <a:xfrm>
            <a:off x="12600" y="461880"/>
            <a:ext cx="9131400" cy="452520"/>
          </a:xfrm>
          <a:prstGeom prst="rect">
            <a:avLst/>
          </a:prstGeom>
          <a:solidFill>
            <a:srgbClr val="f28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ADEMPIMENTI LEGISLATIV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ttangolo 2"/>
          <p:cNvSpPr/>
          <p:nvPr/>
        </p:nvSpPr>
        <p:spPr>
          <a:xfrm>
            <a:off x="152280" y="1282680"/>
            <a:ext cx="86868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2060"/>
                </a:solidFill>
                <a:latin typeface="Calibri"/>
              </a:rPr>
              <a:t>Rispettate le norme in materia di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002060"/>
                </a:solidFill>
                <a:latin typeface="Calibri"/>
              </a:rPr>
              <a:t>ACCANTONAMENTO TF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2060"/>
                </a:solidFill>
                <a:latin typeface="Calibri"/>
              </a:rPr>
              <a:t>Le somme maturate a favore dei dipendenti nel fondo esposto in bilancio sono state versate su un apposito conto assicurativo, per garantire l’immediata disponibilità monetar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002060"/>
                </a:solidFill>
                <a:latin typeface="Calibri"/>
              </a:rPr>
              <a:t>AGGIORNAMENTO DEL PERSONALE INTERNO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2060"/>
                </a:solidFill>
                <a:latin typeface="Calibri"/>
              </a:rPr>
              <a:t>attraverso specifici Percorsi di Formazione sulla base dei fabbisogni espres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Titolo 1"/>
          <p:cNvSpPr/>
          <p:nvPr/>
        </p:nvSpPr>
        <p:spPr>
          <a:xfrm>
            <a:off x="12600" y="461880"/>
            <a:ext cx="9131400" cy="452520"/>
          </a:xfrm>
          <a:prstGeom prst="rect">
            <a:avLst/>
          </a:prstGeom>
          <a:solidFill>
            <a:srgbClr val="f28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ffffff"/>
                </a:solidFill>
                <a:latin typeface="Arial"/>
              </a:rPr>
              <a:t>PROSPETTIVE PER IL 202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ttangolo 2"/>
          <p:cNvSpPr/>
          <p:nvPr/>
        </p:nvSpPr>
        <p:spPr>
          <a:xfrm>
            <a:off x="33480" y="923760"/>
            <a:ext cx="8686800" cy="42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262673"/>
                </a:solidFill>
                <a:latin typeface="Calibri"/>
              </a:rPr>
              <a:t>SI PREVEDE UN FATTURATO GLOBALE IN LIEVE FLESSIONE RISPETTO ALL’ANNO PRECED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262673"/>
                </a:solidFill>
                <a:latin typeface="Calibri"/>
              </a:rPr>
              <a:t>Sarebbe auspicabile sostenere le attività istituzionali con: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262673"/>
                </a:solidFill>
                <a:latin typeface="Calibri"/>
              </a:rPr>
              <a:t>- ricorso più massiccio al Fond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262673"/>
                </a:solidFill>
                <a:latin typeface="Calibri"/>
              </a:rPr>
              <a:t>- ipotesi di adesione al Terzo Settor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262673"/>
                </a:solidFill>
                <a:latin typeface="Calibri"/>
              </a:rPr>
              <a:t>PERCH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262673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262673"/>
                </a:solidFill>
                <a:latin typeface="Calibri"/>
              </a:rPr>
              <a:t>L’ente è già organizzato a livello amministrativo contab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262673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262673"/>
                </a:solidFill>
                <a:latin typeface="Calibri"/>
              </a:rPr>
              <a:t>è migliorata la capacità organizzativo-gestiona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262673"/>
                </a:solidFill>
                <a:latin typeface="Calibri"/>
              </a:rPr>
              <a:t>anche grazie all’utilizzo di software di contabilit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Titolo 1"/>
          <p:cNvSpPr/>
          <p:nvPr/>
        </p:nvSpPr>
        <p:spPr>
          <a:xfrm>
            <a:off x="12600" y="461880"/>
            <a:ext cx="9131400" cy="452520"/>
          </a:xfrm>
          <a:prstGeom prst="rect">
            <a:avLst/>
          </a:prstGeom>
          <a:solidFill>
            <a:srgbClr val="f28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ffffff"/>
                </a:solidFill>
                <a:latin typeface="Arial"/>
              </a:rPr>
              <a:t>VOTAZION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ttangolo 2"/>
          <p:cNvSpPr/>
          <p:nvPr/>
        </p:nvSpPr>
        <p:spPr>
          <a:xfrm>
            <a:off x="152280" y="1282680"/>
            <a:ext cx="86868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262673"/>
                </a:solidFill>
                <a:latin typeface="Arial"/>
              </a:rPr>
              <a:t>Alla luce delle considerazioni svolte nei punti precedenti e di quanto esposto nella Nota Integrat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262673"/>
                </a:solidFill>
                <a:latin typeface="Arial"/>
              </a:rPr>
              <a:t>la Segretaria Nazion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262673"/>
                </a:solidFill>
                <a:latin typeface="Arial"/>
              </a:rPr>
              <a:t> </a:t>
            </a:r>
            <a:r>
              <a:rPr b="1" lang="it-IT" sz="2800" spc="-1" strike="noStrike">
                <a:solidFill>
                  <a:srgbClr val="262673"/>
                </a:solidFill>
                <a:latin typeface="Arial"/>
              </a:rPr>
              <a:t>Vi propone di approvare il progetto di bilancio che Vi viene sottopos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262673"/>
                </a:solidFill>
                <a:latin typeface="Arial"/>
              </a:rPr>
              <a:t>e di coprire il disavanzo di gestione pari ad euro </a:t>
            </a:r>
            <a:r>
              <a:rPr b="0" i="1" lang="it-IT" sz="2800" spc="-1" strike="noStrike">
                <a:solidFill>
                  <a:srgbClr val="000000"/>
                </a:solidFill>
                <a:latin typeface="Calibri Light"/>
                <a:ea typeface="Calibri"/>
              </a:rPr>
              <a:t> </a:t>
            </a:r>
            <a:r>
              <a:rPr b="1" lang="it-IT" sz="2800" spc="-1" strike="noStrike">
                <a:solidFill>
                  <a:srgbClr val="262673"/>
                </a:solidFill>
                <a:latin typeface="Arial"/>
              </a:rPr>
              <a:t>3.000 con il Fondo Associa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Titolo 1"/>
          <p:cNvSpPr/>
          <p:nvPr/>
        </p:nvSpPr>
        <p:spPr>
          <a:xfrm>
            <a:off x="0" y="76320"/>
            <a:ext cx="9144000" cy="3808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PREVENTIVO ESERCIZIO 20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3" name="Tabella 6" descr=""/>
          <p:cNvPicPr/>
          <p:nvPr/>
        </p:nvPicPr>
        <p:blipFill>
          <a:blip r:embed="rId1"/>
          <a:stretch/>
        </p:blipFill>
        <p:spPr>
          <a:xfrm>
            <a:off x="371520" y="414360"/>
            <a:ext cx="8102520" cy="601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ttangolo 40"/>
          <p:cNvSpPr/>
          <p:nvPr/>
        </p:nvSpPr>
        <p:spPr>
          <a:xfrm>
            <a:off x="0" y="5257800"/>
            <a:ext cx="9140760" cy="1600200"/>
          </a:xfrm>
          <a:prstGeom prst="rect">
            <a:avLst/>
          </a:prstGeom>
          <a:solidFill>
            <a:srgbClr val="efef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ttangolo 35"/>
          <p:cNvSpPr/>
          <p:nvPr/>
        </p:nvSpPr>
        <p:spPr>
          <a:xfrm>
            <a:off x="7927920" y="839880"/>
            <a:ext cx="1216080" cy="1295280"/>
          </a:xfrm>
          <a:prstGeom prst="rect">
            <a:avLst/>
          </a:prstGeom>
          <a:solidFill>
            <a:srgbClr val="7b23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ttangolo 41"/>
          <p:cNvSpPr/>
          <p:nvPr/>
        </p:nvSpPr>
        <p:spPr>
          <a:xfrm>
            <a:off x="0" y="2895480"/>
            <a:ext cx="9144000" cy="679680"/>
          </a:xfrm>
          <a:prstGeom prst="rect">
            <a:avLst/>
          </a:prstGeom>
          <a:solidFill>
            <a:srgbClr val="f8b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Rettangolo 27"/>
          <p:cNvSpPr/>
          <p:nvPr/>
        </p:nvSpPr>
        <p:spPr>
          <a:xfrm>
            <a:off x="7075440" y="2135160"/>
            <a:ext cx="852480" cy="442800"/>
          </a:xfrm>
          <a:prstGeom prst="rect">
            <a:avLst/>
          </a:prstGeom>
          <a:solidFill>
            <a:srgbClr val="f28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ttangolo 32"/>
          <p:cNvSpPr/>
          <p:nvPr/>
        </p:nvSpPr>
        <p:spPr>
          <a:xfrm>
            <a:off x="7075440" y="-23760"/>
            <a:ext cx="852480" cy="863640"/>
          </a:xfrm>
          <a:prstGeom prst="rect">
            <a:avLst/>
          </a:prstGeom>
          <a:solidFill>
            <a:srgbClr val="0083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0" y="2895480"/>
            <a:ext cx="7927920" cy="679680"/>
          </a:xfrm>
          <a:prstGeom prst="rect">
            <a:avLst/>
          </a:prstGeom>
          <a:solidFill>
            <a:srgbClr val="f28e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2874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ffff"/>
                </a:solidFill>
                <a:latin typeface="Arial"/>
                <a:ea typeface="Calibri"/>
              </a:rPr>
              <a:t>Grazie per l’attenzio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ttangolo 1"/>
          <p:cNvSpPr/>
          <p:nvPr/>
        </p:nvSpPr>
        <p:spPr>
          <a:xfrm>
            <a:off x="380880" y="1066680"/>
            <a:ext cx="8534520" cy="47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9446e"/>
                </a:solidFill>
                <a:latin typeface="Calibri"/>
              </a:rPr>
              <a:t>IL CONTESTO MACRO-ECONOM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9446e"/>
                </a:solidFill>
                <a:latin typeface="Calibri"/>
              </a:rPr>
              <a:t>NEL 2021 CONTINUA LO STATO DI CRISI PER LA PANDEM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9446e"/>
                </a:solidFill>
                <a:latin typeface="Calibri"/>
              </a:rPr>
              <a:t>- interi settori economici devastat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9446e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9446e"/>
                </a:solidFill>
                <a:latin typeface="Calibri"/>
              </a:rPr>
              <a:t>precarietà, nuove povertà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9446e"/>
                </a:solidFill>
                <a:latin typeface="Calibri"/>
              </a:rPr>
              <a:t>sperequazione dei redditi e concentrazione della ricchezz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9446e"/>
                </a:solidFill>
                <a:latin typeface="Calibri"/>
              </a:rPr>
              <a:t>Obiettivo del Governo entro il 20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9446e"/>
                </a:solidFill>
                <a:latin typeface="Calibri"/>
              </a:rPr>
              <a:t>per un ritorno graduale alla “normalità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9446e"/>
                </a:solidFill>
                <a:latin typeface="Calibri"/>
              </a:rPr>
              <a:t>- portare avanti la campagna vaccin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9446e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9446e"/>
                </a:solidFill>
                <a:latin typeface="Calibri"/>
              </a:rPr>
              <a:t>puntare su crescita del PIL e stabilità (Next Generation EU, PNR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9446e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9446e"/>
                </a:solidFill>
                <a:latin typeface="Calibri"/>
              </a:rPr>
              <a:t>Ma…….il 24 febbraio 2022 la Russia attacca l’Ucra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ttangolo 1"/>
          <p:cNvSpPr/>
          <p:nvPr/>
        </p:nvSpPr>
        <p:spPr>
          <a:xfrm>
            <a:off x="457200" y="1612800"/>
            <a:ext cx="8534520" cy="36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9446e"/>
                </a:solidFill>
                <a:latin typeface="Calibri"/>
              </a:rPr>
              <a:t>Nel corso del 2021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9446e"/>
                </a:solidFill>
                <a:latin typeface="Calibri"/>
              </a:rPr>
              <a:t>l’Associazione ha operato nell’ambito del sistema educativo dell’istruzione e della formazio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9446e"/>
                </a:solidFill>
                <a:latin typeface="Calibri"/>
              </a:rPr>
              <a:t>collaborando principalmen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9446e"/>
                </a:solidFill>
                <a:latin typeface="Calibri"/>
              </a:rPr>
              <a:t>con enti pubblici e privati nazional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9446e"/>
                </a:solidFill>
                <a:latin typeface="Calibri"/>
              </a:rPr>
              <a:t>(FONDER, MIUR…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itolo 1"/>
          <p:cNvSpPr/>
          <p:nvPr/>
        </p:nvSpPr>
        <p:spPr>
          <a:xfrm>
            <a:off x="6019920" y="455760"/>
            <a:ext cx="2819160" cy="458640"/>
          </a:xfrm>
          <a:prstGeom prst="rect">
            <a:avLst/>
          </a:prstGeom>
          <a:solidFill>
            <a:srgbClr val="f28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Titolo 1"/>
          <p:cNvSpPr/>
          <p:nvPr/>
        </p:nvSpPr>
        <p:spPr>
          <a:xfrm>
            <a:off x="0" y="530280"/>
            <a:ext cx="9131400" cy="452520"/>
          </a:xfrm>
          <a:prstGeom prst="rect">
            <a:avLst/>
          </a:prstGeom>
          <a:solidFill>
            <a:srgbClr val="f28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LA GESTIONE ECONOMICO-FINANZIARIA ED IL RISCHIO DI LIQUIDIT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ttangolo 2"/>
          <p:cNvSpPr/>
          <p:nvPr/>
        </p:nvSpPr>
        <p:spPr>
          <a:xfrm>
            <a:off x="235080" y="1066680"/>
            <a:ext cx="8686800" cy="50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262673"/>
                </a:solidFill>
                <a:latin typeface="Calibri"/>
              </a:rPr>
              <a:t>LA GESTIONE FINANZIA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262673"/>
                </a:solidFill>
                <a:latin typeface="Calibri"/>
              </a:rPr>
              <a:t>È stata attua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262673"/>
                </a:solidFill>
                <a:latin typeface="Calibri"/>
              </a:rPr>
              <a:t>UN’ATTENTA E PUNTUALE GESTIONE FINANZIARIA</a:t>
            </a:r>
            <a:r>
              <a:rPr b="0" lang="it-IT" sz="2800" spc="-1" strike="noStrike">
                <a:solidFill>
                  <a:srgbClr val="262673"/>
                </a:solidFill>
                <a:latin typeface="Calibri"/>
              </a:rPr>
              <a:t> ricorrendo 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262673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262673"/>
                </a:solidFill>
                <a:latin typeface="Calibri"/>
              </a:rPr>
              <a:t>dilazioni di pagamento e richieste di posticipo delle scadenze a fornitori abitual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262673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262673"/>
                </a:solidFill>
                <a:latin typeface="Calibri"/>
              </a:rPr>
              <a:t>temporanee compensazioni tra attivit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262673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262673"/>
                </a:solidFill>
                <a:latin typeface="Calibri"/>
              </a:rPr>
              <a:t>riscossioni di acconti/saldi di progetti in erogazione e/o conclusi con riconosciuto pari al 100% e riscossione totale del saldo fin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262673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262673"/>
                </a:solidFill>
                <a:latin typeface="Calibri"/>
              </a:rPr>
              <a:t>Anticipazioni Infruttifere da so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ttangolo 1"/>
          <p:cNvSpPr/>
          <p:nvPr/>
        </p:nvSpPr>
        <p:spPr>
          <a:xfrm>
            <a:off x="380880" y="1295280"/>
            <a:ext cx="807732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09446e"/>
                </a:solidFill>
                <a:latin typeface="Calibri"/>
              </a:rPr>
              <a:t>Il bilancio d’esercizio 2021 del CIOFS SCUOLA FM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09446e"/>
                </a:solidFill>
                <a:latin typeface="Calibri"/>
              </a:rPr>
              <a:t>è stato redatto nel rispetto delle norme nazionali ed europee vigenti in mater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Rettangolo 4"/>
          <p:cNvSpPr/>
          <p:nvPr/>
        </p:nvSpPr>
        <p:spPr>
          <a:xfrm>
            <a:off x="1447920" y="2666880"/>
            <a:ext cx="7010280" cy="22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9446e"/>
                </a:solidFill>
                <a:latin typeface="Calibri"/>
              </a:rPr>
              <a:t>Si compone dei seguenti documenti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buClr>
                <a:srgbClr val="09446e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9446e"/>
                </a:solidFill>
                <a:latin typeface="Calibri"/>
                <a:ea typeface="Arial"/>
              </a:rPr>
              <a:t>Bilancio Ce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buClr>
                <a:srgbClr val="09446e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9446e"/>
                </a:solidFill>
                <a:latin typeface="Calibri"/>
                <a:ea typeface="Arial"/>
              </a:rPr>
              <a:t>Nota Integrativ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9446e"/>
                </a:solidFill>
                <a:latin typeface="Calibri"/>
              </a:rPr>
              <a:t>e dalla Relazione del Collegio dei Revisori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9446e"/>
                </a:solidFill>
                <a:latin typeface="Calibri"/>
              </a:rPr>
              <a:t>(Controllo Legale e di Revisione Legale dei Cont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ttangolo 1"/>
          <p:cNvSpPr/>
          <p:nvPr/>
        </p:nvSpPr>
        <p:spPr>
          <a:xfrm>
            <a:off x="609480" y="1295280"/>
            <a:ext cx="80773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ttangolo 4"/>
          <p:cNvSpPr/>
          <p:nvPr/>
        </p:nvSpPr>
        <p:spPr>
          <a:xfrm>
            <a:off x="343080" y="2209680"/>
            <a:ext cx="861048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9446e"/>
                </a:solidFill>
                <a:latin typeface="Calibri"/>
              </a:rPr>
              <a:t>COMPOSIZIO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9446e"/>
                </a:solidFill>
                <a:latin typeface="Calibri"/>
              </a:rPr>
              <a:t>DELL’ATTIVO E DEL PASSIVO PATRIMONI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itolo 1"/>
          <p:cNvSpPr/>
          <p:nvPr/>
        </p:nvSpPr>
        <p:spPr>
          <a:xfrm>
            <a:off x="4114800" y="455760"/>
            <a:ext cx="4724280" cy="458640"/>
          </a:xfrm>
          <a:prstGeom prst="rect">
            <a:avLst/>
          </a:prstGeom>
          <a:solidFill>
            <a:srgbClr val="f28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ANALISI DEI DATI AGGREGA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Titolo 1"/>
          <p:cNvSpPr/>
          <p:nvPr/>
        </p:nvSpPr>
        <p:spPr>
          <a:xfrm>
            <a:off x="25560" y="466560"/>
            <a:ext cx="8966160" cy="459000"/>
          </a:xfrm>
          <a:prstGeom prst="rect">
            <a:avLst/>
          </a:prstGeom>
          <a:solidFill>
            <a:srgbClr val="f28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ATTIVO PATRIMONIALE – COMPOSIZIONE PERCENTU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0" name="Grafico 4"/>
          <p:cNvGraphicFramePr/>
          <p:nvPr/>
        </p:nvGraphicFramePr>
        <p:xfrm>
          <a:off x="177840" y="2387520"/>
          <a:ext cx="8636040" cy="3835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1" name="Grafico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840" y="2387520"/>
                    <a:ext cx="8636040" cy="383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2" name=""/>
          <p:cNvGraphicFramePr/>
          <p:nvPr/>
        </p:nvGraphicFramePr>
        <p:xfrm>
          <a:off x="2438280" y="1181160"/>
          <a:ext cx="3810240" cy="1257120"/>
        </p:xfrm>
        <a:graphic>
          <a:graphicData uri="http://schemas.openxmlformats.org/drawingml/2006/table">
            <a:tbl>
              <a:tblPr/>
              <a:tblGrid>
                <a:gridCol w="1947960"/>
                <a:gridCol w="1862280"/>
              </a:tblGrid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224b50"/>
                          </a:solidFill>
                          <a:latin typeface="Calibri"/>
                        </a:rPr>
                        <a:t>20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224b50"/>
                          </a:solidFill>
                          <a:latin typeface="Calibri"/>
                        </a:rPr>
                        <a:t>46.683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224b50"/>
                          </a:solidFill>
                          <a:latin typeface="Calibri"/>
                        </a:rPr>
                        <a:t>20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224b50"/>
                          </a:solidFill>
                          <a:latin typeface="Calibri"/>
                        </a:rPr>
                        <a:t>35.234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224b50"/>
                          </a:solidFill>
                          <a:latin typeface="Calibri"/>
                        </a:rPr>
                        <a:t>VARIAZI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224b50"/>
                          </a:solidFill>
                          <a:latin typeface="Calibri"/>
                        </a:rPr>
                        <a:t>11.449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224b50"/>
                          </a:solidFill>
                          <a:latin typeface="Calibri"/>
                        </a:rPr>
                        <a:t>VARIAZIONE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224b50"/>
                          </a:solidFill>
                          <a:latin typeface="Calibri"/>
                        </a:rPr>
                        <a:t>24,5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3" name="CasellaDiTesto 7"/>
          <p:cNvSpPr/>
          <p:nvPr/>
        </p:nvSpPr>
        <p:spPr>
          <a:xfrm>
            <a:off x="6524640" y="2438280"/>
            <a:ext cx="237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Incremento rispet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all’anno preced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+ 24,5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ttangolo 4"/>
          <p:cNvSpPr/>
          <p:nvPr/>
        </p:nvSpPr>
        <p:spPr>
          <a:xfrm>
            <a:off x="266760" y="457200"/>
            <a:ext cx="861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09446e"/>
                </a:solidFill>
                <a:latin typeface="Calibri"/>
              </a:rPr>
              <a:t>PASSIVO PATRIMONIALE – COMPOSIZIONE PERCENTUAL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5" name="Grafico 5"/>
          <p:cNvGraphicFramePr/>
          <p:nvPr/>
        </p:nvGraphicFramePr>
        <p:xfrm>
          <a:off x="635040" y="1473120"/>
          <a:ext cx="7645320" cy="452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6" name="Grafico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5040" y="1473120"/>
                    <a:ext cx="7645320" cy="452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ttangolo 4"/>
          <p:cNvSpPr/>
          <p:nvPr/>
        </p:nvSpPr>
        <p:spPr>
          <a:xfrm>
            <a:off x="876240" y="2727360"/>
            <a:ext cx="78105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ttangolo 1"/>
          <p:cNvSpPr/>
          <p:nvPr/>
        </p:nvSpPr>
        <p:spPr>
          <a:xfrm>
            <a:off x="372960" y="2249640"/>
            <a:ext cx="8458200" cy="21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5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2060"/>
                </a:solidFill>
                <a:latin typeface="Calibri"/>
                <a:ea typeface="Calibri"/>
              </a:rPr>
              <a:t>LA DISTRIBUZIONE PERCENTUALE DEI RICAVI E DEI COSTI DI ESERCIZI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itolo 1"/>
          <p:cNvSpPr/>
          <p:nvPr/>
        </p:nvSpPr>
        <p:spPr>
          <a:xfrm>
            <a:off x="1828800" y="685800"/>
            <a:ext cx="5046840" cy="458640"/>
          </a:xfrm>
          <a:prstGeom prst="rect">
            <a:avLst/>
          </a:prstGeom>
          <a:solidFill>
            <a:srgbClr val="f28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ANALISI DEI COSTI E DEI RICA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5T11:13:54Z</dcterms:created>
  <dc:creator>Federica Ruggiero</dc:creator>
  <dc:description/>
  <dc:language>en-US</dc:language>
  <cp:lastModifiedBy>maria paolucci</cp:lastModifiedBy>
  <cp:lastPrinted>2022-03-24T10:31:40Z</cp:lastPrinted>
  <dcterms:modified xsi:type="dcterms:W3CDTF">2022-03-26T14:00:18Z</dcterms:modified>
  <cp:revision>36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